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38404800" cy="38404800"/>
  <p:notesSz cx="31953200" cy="50147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31953600" cy="501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17942040" y="-36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6501960" y="3757320"/>
            <a:ext cx="18748440" cy="1874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4763880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17942040" y="4763880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  <a:defRPr b="0" lang="en-AU" sz="60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</a:pPr>
            <a:fld id="{CBAED2C7-A059-4322-BB6A-AB2CC8D2CF4E}" type="slidenum">
              <a:rPr b="0" lang="en-AU" sz="60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7942040" y="47639160"/>
            <a:ext cx="141350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0" rIns="450000" tIns="225000" bIns="22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8640"/>
                <a:tab algn="l" pos="9016920"/>
              </a:tabLst>
            </a:pPr>
            <a:fld id="{76418B55-7639-4564-B6BC-EDE1A4499D39}" type="slidenum">
              <a:rPr b="0" lang="en-AU" sz="6000" spc="-1" strike="noStrike">
                <a:solidFill>
                  <a:srgbClr val="000000"/>
                </a:solidFill>
                <a:latin typeface="Times New Roman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502320" y="3757680"/>
            <a:ext cx="18748440" cy="18748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E53-904B-4E9D-AE12-9FD1D56F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43E-5F77-42E8-BB99-819A24FB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6DF-41AC-4713-AF05-877C49D2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961-8D8B-43BB-A14F-81B74622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A392-36FC-4012-BF72-82FEB866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EDDA-A7DD-4EA9-821D-3E1A9C53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177D-3FEA-4C60-B248-96720D7B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4844-55EE-403F-AE5A-803A8D42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5F3B-D4B1-4252-BE76-B651CE00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D43A-906A-4C86-AF5D-4846DC5F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993B-9660-482F-BE73-46762A6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95B-C179-4029-BEE7-8FB2BF4B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604B-9A62-439F-A92A-222A5791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5D5D-2CBF-4472-A85D-E73BC75A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3009-484B-428E-80CB-10CD66EC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83EF-1F4A-4AEA-966B-EBAFF21C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9866-5869-4545-A7A2-1AAF7AC8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CBB5-CF62-4784-8198-8E7B0B77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0E86-21FE-4F91-8813-B7475D32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5EA2-16C6-4B06-90EF-D78CCF00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BD0B-53E8-4C14-AB27-67E3D768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4E6F6-4D3C-4FFD-B517-1379519E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0F5-AF34-4F70-8A2D-22B006D5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9DF1-B894-4725-BED8-CBE59579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D9899-DA26-4979-A891-F2BEAF21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5CEF8-95C4-4B87-B06E-B65D65B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DA9AC-6D97-408D-9FC9-46CB4137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20BF-8A55-48D6-8F74-A50D96FF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EAE47-F959-4A3B-875D-B582F76C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AF32-EED1-4A97-91D0-1444BFEC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40C1-5B2B-46BF-962E-FFBA9C82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AD776-3BFB-4C9A-B6CC-BB4015CA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E6B5-E5E7-4203-9E82-AC3911E7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235-E793-4DF7-8099-4FECD030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4A6E-EF57-49EE-9B70-D943A1A2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2E4A1-773A-4A56-9A21-B3DD8921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E7BB1-1EB7-4562-8B41-03FEB127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BD530-8D57-4795-B032-C04C636C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DF75A-D842-499D-8932-09DA2AE0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0C861-52D0-498E-817C-4FAE9756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2148-ACF0-4B37-8636-5FB0CC16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3D970-4616-4C81-BE80-EA4D8C9A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1B385-3BA4-44CB-8903-74CC236D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6DAE8-7E1F-4B4F-BC57-C32B2C82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F18-B0A8-4C4D-9CBC-1C7BAB99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F8095-A453-4F17-B036-A8316130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DEDAE-00D0-4144-8B7A-805917F8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BA7DC-F80D-4D34-8739-7F226E19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9825A-165F-46D3-A5AA-E549C227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2CCE1-FAAE-4D7D-B9AF-71FCB9F0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A1DEB-8284-47FF-8036-F7773B62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7F8C1-1A2C-4FFD-BB73-9D0D7EF2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6C1F5-F8C3-41B0-88FC-C8E879C5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32504-D106-4B33-9394-10833227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9DE63-F7F0-4DE6-A7D0-E9AB23E5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7DD-6583-418A-8722-97F441E5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0C67-5350-4E5C-8EBA-E7A0BE80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99B-52E1-4FC6-BF68-3AA73E29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745-D161-4261-9020-36BE0DB3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F42-5C92-422D-96F2-AD39E0C8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3080" y="35704440"/>
            <a:ext cx="73371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722400" y="35704440"/>
            <a:ext cx="129600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124200" y="35704440"/>
            <a:ext cx="8880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11132-30C0-4800-A6D5-AEB9E49BD160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2852640" cy="384048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8664480" y="3533760"/>
            <a:ext cx="21967920" cy="2928312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97320" y="35704440"/>
            <a:ext cx="73389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316808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8562040" y="35704440"/>
            <a:ext cx="7337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66E4B-5CE0-4945-924C-504CD78FC478}" type="slidenum">
              <a: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8866080" cy="384048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2754360" y="0"/>
            <a:ext cx="5186160" cy="384048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8866080" cy="38404800"/>
            <a:chOff x="0" y="0"/>
            <a:chExt cx="8866080" cy="384048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8866080" cy="384048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2754360" y="0"/>
              <a:ext cx="5185800" cy="384048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0194480" y="35704440"/>
            <a:ext cx="47055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662876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31318200" y="35704440"/>
            <a:ext cx="4686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F8E21-1700-4081-BE91-2104AF4467AE}" type="slidenum">
              <a: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2409480" y="35704440"/>
            <a:ext cx="38847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7926200" y="35704440"/>
            <a:ext cx="38829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43543-30CD-4FF3-8593-F14E50EDA891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2413080" y="35704440"/>
            <a:ext cx="38815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17875080" y="35704440"/>
            <a:ext cx="3980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126AF-B247-4B6A-9BEF-E71C1A58CCE8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4"/>
          <p:cNvSpPr/>
          <p:nvPr/>
        </p:nvSpPr>
        <p:spPr>
          <a:xfrm>
            <a:off x="10229760" y="10490040"/>
            <a:ext cx="8629920" cy="152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BAE-Net integrates the band attention mechanism into a VITAL tracker  which enhances positive sample data using adversarial learning and deals with class imbalance using a cost-sensitive loss function to suppress negative 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pecifically, an autoencoder-like architecture is employed to learn the nonlinear relationship among bands and generate their significance while reducing the influence of nois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ubsequently, the spectral bands are reordered according to their importance and partitioned into a number of three-channel imag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hese images are then passed through VITAL tracker, producing a set of weak trackers which are finally combined via ensemble learning to determine the location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19375560" y="10490040"/>
            <a:ext cx="17718120" cy="148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00080" y="1422360"/>
            <a:ext cx="364046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540000" tIns="540000" bIns="54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9116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BAE-NET: A BAND ATTENTION AWARE ENSEMBLE</a:t>
            </a:r>
            <a:br>
              <a:rPr sz="8800"/>
            </a:br>
            <a:r>
              <a:rPr b="1" i="1" lang="en-AU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NETWORK FOR HYPERSPECTRAL OBJECT TRACKING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28880" y="6272280"/>
            <a:ext cx="363758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Zhuanfeng Li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1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Fengchao Xiong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,∗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Jun Zhou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ng Wang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anfeng Lu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and Yuntao Qian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3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1 School of Computer Science and Engineering, Nanjing University of Science and Technolog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2 School of Information and Communication Technology, Griffith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3 College of Computer Science, Zhejiang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9886760" y="11828520"/>
            <a:ext cx="8001000" cy="641340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Text Box 60"/>
          <p:cNvSpPr/>
          <p:nvPr/>
        </p:nvSpPr>
        <p:spPr>
          <a:xfrm>
            <a:off x="20726280" y="37249200"/>
            <a:ext cx="16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EEE International Conference on Image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23317200" y="1201248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baseline VITAL tracker with respect to precision plot and success plo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op among all the trackers by achieving 0.616 on AUC metr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VITAL-False and BAE-Net outperform VITAL-HS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Not all the bands contribute equally to tracking but band ranking can suppress the uninformative ban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Text Box 122"/>
          <p:cNvSpPr/>
          <p:nvPr/>
        </p:nvSpPr>
        <p:spPr>
          <a:xfrm>
            <a:off x="1000080" y="10490040"/>
            <a:ext cx="8570880" cy="1477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racking on color videos have made great progress, but it has intrinsic limitation in depicting the physical properties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Compared to color images, hyperspectral images (HSIs) record continuous spectral reflectance of targets in light wavelength indexed band images. Qian and Xiong et.al proposed  hand-crafted features for object tracking but cannot describe the inherent nature of the data. Uzkent et al. proposed a deep kernelized correlation filter method for tracking but losed valuable spectral information with HSI converted into 3-channel imag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lternatively, an HSI can be divided into a series of three-channel images with band selection to  select a number of top-ranked bands in order of their importan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Text Box 123"/>
          <p:cNvSpPr/>
          <p:nvPr/>
        </p:nvSpPr>
        <p:spPr>
          <a:xfrm>
            <a:off x="969840" y="24881040"/>
            <a:ext cx="8575920" cy="1169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Purpos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Hyperspectral videos contain images with a large number of light wavelength indexed bands that can facilitate material identification for object tracking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Most hyperspectral trackers use hand-crafted features rather than deep learning generated features for image representation due to limited trai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o fill this gap, this paper introduces a band attention aware ensemble network (BAE-Net) for deep hyperspectral object tracking, which takes advantages of deep models trained on color videos for feature represent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Rectangle 146"/>
          <p:cNvSpPr/>
          <p:nvPr/>
        </p:nvSpPr>
        <p:spPr>
          <a:xfrm>
            <a:off x="28519560" y="25752600"/>
            <a:ext cx="8574120" cy="11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In this paper, we have introduced a BAE-Net for hyperspectral object tracking. Firstly, the HSIs are split into a group of three-channel images according to the band-wise importance learned by autoencoder-like band attention module. Then the split three-channel images are fed into a deep color tracking network to generate a set of weak trackers. These weak trackers are fused by ensemble learning. Finally, all parameters are learned in an end-to-end manner. Experimental results have proved that proposed method achieves better results than deep color trackers and hyperspectral tracker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10229760" y="25741440"/>
            <a:ext cx="18134280" cy="4657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50"/>
          <p:cNvSpPr/>
          <p:nvPr/>
        </p:nvSpPr>
        <p:spPr>
          <a:xfrm>
            <a:off x="10233000" y="30399120"/>
            <a:ext cx="18104040" cy="22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n autoencoder-like architecture is used to produce band ranking. The sorted bands are split into a group of three-channel images, which are fed into VITAL to produce weak trackers. Ensemble learning combines weak trackers for object localiz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1" name="图片 2" descr=""/>
          <p:cNvPicPr/>
          <p:nvPr/>
        </p:nvPicPr>
        <p:blipFill>
          <a:blip r:embed="rId2"/>
          <a:stretch/>
        </p:blipFill>
        <p:spPr>
          <a:xfrm>
            <a:off x="10229760" y="32696280"/>
            <a:ext cx="9145800" cy="44830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150" descr=""/>
          <p:cNvPicPr/>
          <p:nvPr/>
        </p:nvPicPr>
        <p:blipFill>
          <a:blip r:embed="rId3"/>
          <a:stretch/>
        </p:blipFill>
        <p:spPr>
          <a:xfrm>
            <a:off x="19373760" y="32693040"/>
            <a:ext cx="9033120" cy="44863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" descr=""/>
          <p:cNvPicPr/>
          <p:nvPr/>
        </p:nvPicPr>
        <p:blipFill>
          <a:blip r:embed="rId4"/>
          <a:stretch/>
        </p:blipFill>
        <p:spPr>
          <a:xfrm>
            <a:off x="20142360" y="11926800"/>
            <a:ext cx="3009600" cy="27687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198867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Text Box 69"/>
          <p:cNvSpPr/>
          <p:nvPr/>
        </p:nvSpPr>
        <p:spPr>
          <a:xfrm>
            <a:off x="23317200" y="1887840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hyperspectral track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he top as it considers the importance of different bands before deep feature extraction and fuse the tracking results from weak trackers using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MHT obtains better results than DeepHKCF and CNHT since it considers spectral-spatial structure of H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图片 6" descr=""/>
          <p:cNvPicPr/>
          <p:nvPr/>
        </p:nvPicPr>
        <p:blipFill>
          <a:blip r:embed="rId5"/>
          <a:stretch/>
        </p:blipFill>
        <p:spPr>
          <a:xfrm>
            <a:off x="20105640" y="18797760"/>
            <a:ext cx="2989440" cy="27907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8" descr=""/>
          <p:cNvPicPr/>
          <p:nvPr/>
        </p:nvPicPr>
        <p:blipFill>
          <a:blip r:embed="rId6"/>
          <a:stretch/>
        </p:blipFill>
        <p:spPr>
          <a:xfrm>
            <a:off x="20081880" y="21904200"/>
            <a:ext cx="3070080" cy="24559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" descr=""/>
          <p:cNvPicPr/>
          <p:nvPr/>
        </p:nvPicPr>
        <p:blipFill>
          <a:blip r:embed="rId7"/>
          <a:stretch/>
        </p:blipFill>
        <p:spPr>
          <a:xfrm>
            <a:off x="20086560" y="14946480"/>
            <a:ext cx="3008520" cy="25016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"/>
          <p:cNvSpPr/>
          <p:nvPr/>
        </p:nvSpPr>
        <p:spPr>
          <a:xfrm>
            <a:off x="28258920" y="11828520"/>
            <a:ext cx="8001000" cy="643572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" name="图片 10" descr=""/>
          <p:cNvPicPr/>
          <p:nvPr/>
        </p:nvPicPr>
        <p:blipFill>
          <a:blip r:embed="rId8"/>
          <a:stretch/>
        </p:blipFill>
        <p:spPr>
          <a:xfrm>
            <a:off x="28366920" y="11950560"/>
            <a:ext cx="7689960" cy="20116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9"/>
          <p:cNvSpPr/>
          <p:nvPr/>
        </p:nvSpPr>
        <p:spPr>
          <a:xfrm>
            <a:off x="28435320" y="14114520"/>
            <a:ext cx="7648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Table 1. Comparison of AUC with deep color trackers. Red and blue mark the top two valu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l these alternative trackers were run on both color videos and false-color video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most all trackers provide better AUCs on color videos because HSI are of lower spatial resolution and contain more nois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achieves the best AUC on HSI videos thanks to the embedded band attention module and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282909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3" name="图片 15" descr=""/>
          <p:cNvPicPr/>
          <p:nvPr/>
        </p:nvPicPr>
        <p:blipFill>
          <a:blip r:embed="rId9"/>
          <a:stretch/>
        </p:blipFill>
        <p:spPr>
          <a:xfrm>
            <a:off x="29346480" y="18745200"/>
            <a:ext cx="6086520" cy="5229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9"/>
          <p:cNvSpPr/>
          <p:nvPr/>
        </p:nvSpPr>
        <p:spPr>
          <a:xfrm>
            <a:off x="28551240" y="23922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Fig. Demonstration of visual tracking resul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HSIs, which visualizes the tracking results on pedestrian2, playground and student sequenc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5" name="图片 18" descr=""/>
          <p:cNvPicPr/>
          <p:nvPr/>
        </p:nvPicPr>
        <p:blipFill>
          <a:blip r:embed="rId10"/>
          <a:stretch/>
        </p:blipFill>
        <p:spPr>
          <a:xfrm>
            <a:off x="533520" y="1422360"/>
            <a:ext cx="4343400" cy="41702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1" descr=""/>
          <p:cNvPicPr/>
          <p:nvPr/>
        </p:nvPicPr>
        <p:blipFill>
          <a:blip r:embed="rId11"/>
          <a:stretch/>
        </p:blipFill>
        <p:spPr>
          <a:xfrm>
            <a:off x="33527880" y="1422360"/>
            <a:ext cx="4343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05:44:18Z</dcterms:created>
  <dc:creator/>
  <dc:description>MakeSigns.com
1.800.347.2744</dc:description>
  <dc:language>en-US</dc:language>
  <cp:lastModifiedBy>m18795903919@163.com</cp:lastModifiedBy>
  <cp:lastPrinted>2006-11-15T16:04:57Z</cp:lastPrinted>
  <dcterms:modified xsi:type="dcterms:W3CDTF">2020-11-03T04:53:25Z</dcterms:modified>
  <cp:revision>301</cp:revision>
  <dc:subject/>
  <dc:title>Slide 1</dc:title>
</cp:coreProperties>
</file>