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38404800" cy="38404800"/>
  <p:notesSz cx="31953200" cy="50147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31953600" cy="501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17942040" y="-36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6501960" y="3757320"/>
            <a:ext cx="18748440" cy="1874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-360" y="4763880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17942040" y="4763880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  <a:defRPr b="0" lang="en-AU" sz="60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</a:pPr>
            <a:fld id="{5383F0E7-C41E-4E4F-9A71-C0FC71A9A4C5}" type="slidenum">
              <a:rPr b="0" lang="en-AU" sz="60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7942040" y="47639160"/>
            <a:ext cx="1413504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0" rIns="450000" tIns="225000" bIns="22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8640"/>
                <a:tab algn="l" pos="9016920"/>
              </a:tabLst>
            </a:pPr>
            <a:fld id="{8A6271A3-89F4-4C70-9306-562E2CB5EC71}" type="slidenum">
              <a:rPr b="0" lang="en-AU" sz="6000" spc="-1" strike="noStrike">
                <a:solidFill>
                  <a:srgbClr val="000000"/>
                </a:solidFill>
                <a:latin typeface="Times New Roman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6502320" y="3757680"/>
            <a:ext cx="18748440" cy="18748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A00-A714-444A-8572-33DB2364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3BA-C5E9-40C8-B8B2-FBE5ECA7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10B-67D1-41C9-8572-48AA5795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BE9-3764-4EB3-9E79-C4C5E585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794A-C29E-4A11-8EAA-42715CB0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1640-FCAC-4A56-A9C8-3A87B2CA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15A2-EDA0-481D-982C-23B07850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02AF-F99A-43CD-93F5-4F0B981B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AF67-89CA-458B-A802-63D0FC79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5775-C89E-4B6A-A1C2-7529FCC0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AE13-19AA-4D67-A64E-20E2EDF5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8B8-9A40-4131-A2BC-07414116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E009-FCE8-4CCB-A884-A06ACDF9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DA78-A1E9-46B4-BA1E-C331DDD2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E8AA-67B6-45BC-A365-7EFFB5CA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0EFC-6920-4F4B-9DD6-5F40745D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406C-130B-45B9-8D71-F9BC0805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28D08-1348-4EB5-B7F0-274B424A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69D0F-AFDF-4842-9214-4136A14D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FFAE-E847-4D1D-8E4D-719FEDDF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E9D3-26C3-496B-9672-5ACC1464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3BE3-A1F1-4A34-934D-05DF417D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770-93D6-428C-B225-C9352151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B442E-1B63-433F-9DD5-951CA843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A95C6-3A6E-48FE-9F10-77D151C3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F025-9BC7-4CB9-AE0E-2F7884E1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E9D8-5F13-4625-8F45-EDD2E403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6EF9A-0384-4792-9A88-006EE420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CECE-9C85-46DE-B354-B0963A7C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7467A-8A5B-42B7-BF96-9810FC5C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4F3B5-FC05-4202-BE75-E129DB61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2FC7C-7182-4559-8610-2570F558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5B3BE-3397-4987-AC20-B6510EFF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D62-7090-4732-B6F3-AFE46327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8DD6E-7BEC-4136-B00D-F3C93291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40AC3-E2AD-4728-B532-36A1C445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D05FB-2EBB-48AA-821E-F9B8E2CA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BFEBA-34E8-43B7-AECA-E0385D1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F5FF1-5D87-4D3A-A3C4-E0081E87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62FA6-B722-4E92-8011-7CEA7CEE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3C8A6-0167-427E-9D07-4EEF9A91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D9531-5065-4CBA-98E2-93D65D3C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5C0EE-441D-401A-AD01-7B586600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B9D27-926C-462F-BC01-AD16AE77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EED-8EA1-4ABB-B2D9-46C9BB84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27949-86C7-4060-8BF1-B3E40D27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C5E77-4407-42ED-A2E1-AB71A428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F725E-83B9-4CB7-BC97-B699C3F3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2DB81-8528-436C-9B71-873713ED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0B90F-23EA-47D7-AAF6-533AE3B7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C24C3-898A-4DC0-BC39-50698785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E291F-F650-44D2-B1A3-FBC84B02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08822-480F-4B48-B3A6-E2A46563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1D377-891B-46C6-9C45-8A032A04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1679C-0688-41F9-A8B6-2D2F6546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132-3EC5-4BEC-9062-6C330A49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EC554-12DD-496A-9F1D-355C43AA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349-C68B-4956-A43F-D78F404F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6B0-BB9F-4A88-A286-825A57E9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2C7-1240-4386-974C-864CA878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3080" y="35704440"/>
            <a:ext cx="73371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722400" y="35704440"/>
            <a:ext cx="129600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124200" y="35704440"/>
            <a:ext cx="8880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C65E7-A94F-4493-924A-DBACC970A628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2852640" cy="384048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8664480" y="3533760"/>
            <a:ext cx="21967920" cy="2928312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97320" y="35704440"/>
            <a:ext cx="73389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316808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28562040" y="35704440"/>
            <a:ext cx="7337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98B26-0BB7-40CA-85F0-B210D176E999}" type="slidenum">
              <a: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8866080" cy="384048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2754360" y="0"/>
            <a:ext cx="5186160" cy="384048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8866080" cy="38404800"/>
            <a:chOff x="0" y="0"/>
            <a:chExt cx="8866080" cy="384048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8866080" cy="384048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2754360" y="0"/>
              <a:ext cx="5185800" cy="384048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10194480" y="35704440"/>
            <a:ext cx="47055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662876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31318200" y="35704440"/>
            <a:ext cx="4686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278FF-54A5-4285-9C64-4308C1870877}" type="slidenum">
              <a: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2409480" y="35704440"/>
            <a:ext cx="38847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17926200" y="35704440"/>
            <a:ext cx="38829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FB69D-EFBC-46E9-9177-49E60658E1B3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2413080" y="35704440"/>
            <a:ext cx="38815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17875080" y="35704440"/>
            <a:ext cx="3980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61F07-633E-477A-82D6-DC8ECABE520A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4"/>
          <p:cNvSpPr/>
          <p:nvPr/>
        </p:nvSpPr>
        <p:spPr>
          <a:xfrm>
            <a:off x="10229760" y="10490040"/>
            <a:ext cx="8629920" cy="152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BAE-Net integrates the band attention mechanism into a VITAL tracker  which enhances positive sample data using adversarial learning and deals with class imbalance using a cost-sensitive loss function to suppress negative 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pecifically, an autoencoder-like architecture is employed to learn the nonlinear relationship among bands and generate their significance while reducing the influence of nois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ubsequently, the spectral bands are reordered according to their importance and partitioned into a number of three-channel imag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hese images are then passed through VITAL tracker, producing a set of weak trackers which are finally combined via ensemble learning to determine the location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19375560" y="10490040"/>
            <a:ext cx="17718120" cy="148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000080" y="1422360"/>
            <a:ext cx="3640464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540000" tIns="540000" bIns="54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9116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20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BAE-NET: A BAND ATTENTION AWARE ENSEMBLE</a:t>
            </a:r>
            <a:br>
              <a:rPr sz="8800"/>
            </a:br>
            <a:r>
              <a:rPr b="1" i="1" lang="en-AU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NETWORK FOR HYPERSPECTRAL OBJECT TRACKING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28880" y="6272280"/>
            <a:ext cx="363758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Zhuanfeng Li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1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Fengchao Xiong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,∗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Jun Zhou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ng Wang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anfeng Lu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and Yuntao Qian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3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1 School of Computer Science and Engineering, Nanjing University of Science and Technolog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2 School of Information and Communication Technology, Griffith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3 College of Computer Science, Zhejiang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19886760" y="11828520"/>
            <a:ext cx="8001000" cy="641340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Text Box 60"/>
          <p:cNvSpPr/>
          <p:nvPr/>
        </p:nvSpPr>
        <p:spPr>
          <a:xfrm>
            <a:off x="20726280" y="37249200"/>
            <a:ext cx="166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EEE International Conference on Image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23317200" y="1201248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baseline VITAL tracker with respect to precision plot and success plo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op among all the trackers by achieving 0.616 on AUC metri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VITAL-False and BAE-Net outperform VITAL-HS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Not all the bands contribute equally to tracking but band ranking can suppress the uninformative ban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Text Box 122"/>
          <p:cNvSpPr/>
          <p:nvPr/>
        </p:nvSpPr>
        <p:spPr>
          <a:xfrm>
            <a:off x="1000080" y="10490040"/>
            <a:ext cx="8570880" cy="1477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racking on color videos have made great progress, but it has intrinsic limitation in depicting the physical properties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Compared to color images, hyperspectral images (HSIs) record continuous spectral reflectance of targets in light wavelength indexed band images. Qian and Xiong et.al proposed  hand-crafted features for object tracking but cannot describe the inherent nature of the data. Uzkent et al. proposed a deep kernelized correlation filter method for tracking but losed valuable spectral information with HSI converted into 3-channel imag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lternatively, an HSI can be divided into a series of three-channel images with band selection to  select a number of top-ranked bands in order of their importan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Text Box 123"/>
          <p:cNvSpPr/>
          <p:nvPr/>
        </p:nvSpPr>
        <p:spPr>
          <a:xfrm>
            <a:off x="969840" y="24881040"/>
            <a:ext cx="8575920" cy="1169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Purpose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Hyperspectral videos contain images with a large number of light wavelength indexed bands that can facilitate material identification for object tracking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Most hyperspectral trackers use hand-crafted features rather than deep learning generated features for image representation due to limited trai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o fill this gap, this paper introduces a band attention aware ensemble network (BAE-Net) for deep hyperspectral object tracking, which takes advantages of deep models trained on color videos for feature represent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Rectangle 146"/>
          <p:cNvSpPr/>
          <p:nvPr/>
        </p:nvSpPr>
        <p:spPr>
          <a:xfrm>
            <a:off x="28519560" y="25752600"/>
            <a:ext cx="8574120" cy="1142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In this paper, we have introduced a BAE-Net for hyperspectral object tracking. Firstly, the HSIs are split into a group of three-channel images according to the band-wise importance learned by autoencoder-like band attention module. Then the split three-channel images are fed into a deep color tracking network to generate a set of weak trackers. These weak trackers are fused by ensemble learning. Finally, all parameters are learned in an end-to-end manner. Experimental results have proved that proposed method achieves better results than deep color trackers and hyperspectral tracker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10229760" y="25741440"/>
            <a:ext cx="18134280" cy="4657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50"/>
          <p:cNvSpPr/>
          <p:nvPr/>
        </p:nvSpPr>
        <p:spPr>
          <a:xfrm>
            <a:off x="10233000" y="30399120"/>
            <a:ext cx="18104040" cy="22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n autoencoder-like architecture is used to produce band ranking. The sorted bands are split into a group of three-channel images, which are fed into VITAL to produce weak trackers. Ensemble learning combines weak trackers for object localiz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1" name="图片 2" descr=""/>
          <p:cNvPicPr/>
          <p:nvPr/>
        </p:nvPicPr>
        <p:blipFill>
          <a:blip r:embed="rId2"/>
          <a:stretch/>
        </p:blipFill>
        <p:spPr>
          <a:xfrm>
            <a:off x="10229760" y="32696280"/>
            <a:ext cx="9145800" cy="448308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150" descr=""/>
          <p:cNvPicPr/>
          <p:nvPr/>
        </p:nvPicPr>
        <p:blipFill>
          <a:blip r:embed="rId3"/>
          <a:stretch/>
        </p:blipFill>
        <p:spPr>
          <a:xfrm>
            <a:off x="19373760" y="32693040"/>
            <a:ext cx="9033120" cy="44863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" descr=""/>
          <p:cNvPicPr/>
          <p:nvPr/>
        </p:nvPicPr>
        <p:blipFill>
          <a:blip r:embed="rId4"/>
          <a:stretch/>
        </p:blipFill>
        <p:spPr>
          <a:xfrm>
            <a:off x="20142360" y="11926800"/>
            <a:ext cx="3009600" cy="27687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8"/>
          <p:cNvSpPr/>
          <p:nvPr/>
        </p:nvSpPr>
        <p:spPr>
          <a:xfrm>
            <a:off x="198867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Text Box 69"/>
          <p:cNvSpPr/>
          <p:nvPr/>
        </p:nvSpPr>
        <p:spPr>
          <a:xfrm>
            <a:off x="23317200" y="1887840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hyperspectral tracke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he top as it considers the importance of different bands before deep feature extraction and fuse the tracking results from weak trackers using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MHT obtains better results than DeepHKCF and CNHT since it considers spectral-spatial structure of H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6" name="图片 6" descr=""/>
          <p:cNvPicPr/>
          <p:nvPr/>
        </p:nvPicPr>
        <p:blipFill>
          <a:blip r:embed="rId5"/>
          <a:stretch/>
        </p:blipFill>
        <p:spPr>
          <a:xfrm>
            <a:off x="20105640" y="18797760"/>
            <a:ext cx="2989440" cy="279072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8" descr=""/>
          <p:cNvPicPr/>
          <p:nvPr/>
        </p:nvPicPr>
        <p:blipFill>
          <a:blip r:embed="rId6"/>
          <a:stretch/>
        </p:blipFill>
        <p:spPr>
          <a:xfrm>
            <a:off x="20081880" y="21904200"/>
            <a:ext cx="3070080" cy="245592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9" descr=""/>
          <p:cNvPicPr/>
          <p:nvPr/>
        </p:nvPicPr>
        <p:blipFill>
          <a:blip r:embed="rId7"/>
          <a:stretch/>
        </p:blipFill>
        <p:spPr>
          <a:xfrm>
            <a:off x="20086560" y="14946480"/>
            <a:ext cx="3008520" cy="25016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8"/>
          <p:cNvSpPr/>
          <p:nvPr/>
        </p:nvSpPr>
        <p:spPr>
          <a:xfrm>
            <a:off x="28258920" y="11828520"/>
            <a:ext cx="8001000" cy="643572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" name="图片 10" descr=""/>
          <p:cNvPicPr/>
          <p:nvPr/>
        </p:nvPicPr>
        <p:blipFill>
          <a:blip r:embed="rId8"/>
          <a:stretch/>
        </p:blipFill>
        <p:spPr>
          <a:xfrm>
            <a:off x="28366920" y="11950560"/>
            <a:ext cx="7689960" cy="20116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9"/>
          <p:cNvSpPr/>
          <p:nvPr/>
        </p:nvSpPr>
        <p:spPr>
          <a:xfrm>
            <a:off x="28435320" y="14114520"/>
            <a:ext cx="7648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Table 1. Comparison of AUC with deep color trackers. Red and blue mark the top two valu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l these alternative trackers were run on both color videos and false-color video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most all trackers provide better AUCs on color videos because HSI are of lower spatial resolution and contain more nois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achieves the best AUC on HSI videos thanks to the embedded band attention module and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282909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3" name="图片 15" descr=""/>
          <p:cNvPicPr/>
          <p:nvPr/>
        </p:nvPicPr>
        <p:blipFill>
          <a:blip r:embed="rId9"/>
          <a:stretch/>
        </p:blipFill>
        <p:spPr>
          <a:xfrm>
            <a:off x="29346480" y="18745200"/>
            <a:ext cx="6086520" cy="52293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9"/>
          <p:cNvSpPr/>
          <p:nvPr/>
        </p:nvSpPr>
        <p:spPr>
          <a:xfrm>
            <a:off x="28551240" y="239220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Fig. Demonstration of visual tracking resul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HSIs, which visualizes the tracking results on pedestrian2, playground and student sequenc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5" name="图片 18" descr=""/>
          <p:cNvPicPr/>
          <p:nvPr/>
        </p:nvPicPr>
        <p:blipFill>
          <a:blip r:embed="rId10"/>
          <a:stretch/>
        </p:blipFill>
        <p:spPr>
          <a:xfrm>
            <a:off x="533520" y="1422360"/>
            <a:ext cx="4343400" cy="41702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81" descr=""/>
          <p:cNvPicPr/>
          <p:nvPr/>
        </p:nvPicPr>
        <p:blipFill>
          <a:blip r:embed="rId11"/>
          <a:stretch/>
        </p:blipFill>
        <p:spPr>
          <a:xfrm>
            <a:off x="33527880" y="1422360"/>
            <a:ext cx="43434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4T05:44:18Z</dcterms:created>
  <dc:creator/>
  <dc:description>MakeSigns.com
1.800.347.2744</dc:description>
  <dc:language>en-US</dc:language>
  <cp:lastModifiedBy>m18795903919@163.com</cp:lastModifiedBy>
  <cp:lastPrinted>2006-11-15T16:04:57Z</cp:lastPrinted>
  <dcterms:modified xsi:type="dcterms:W3CDTF">2020-11-03T04:53:25Z</dcterms:modified>
  <cp:revision>301</cp:revision>
  <dc:subject/>
  <dc:title>Slide 1</dc:title>
</cp:coreProperties>
</file>