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</p:sldIdLst>
  <p:sldSz cx="38404800" cy="38404800"/>
  <p:notesSz cx="31953200" cy="50147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31953600" cy="501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13804920" cy="262908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16"/>
          </p:nvPr>
        </p:nvSpPr>
        <p:spPr>
          <a:xfrm>
            <a:off x="17942040" y="-360"/>
            <a:ext cx="14135040" cy="262908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Img"/>
          </p:nvPr>
        </p:nvSpPr>
        <p:spPr>
          <a:xfrm>
            <a:off x="6501960" y="3757320"/>
            <a:ext cx="18748440" cy="1874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move the slide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body"/>
          </p:nvPr>
        </p:nvSpPr>
        <p:spPr>
          <a:xfrm>
            <a:off x="4137120" y="24004080"/>
            <a:ext cx="23456880" cy="225126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7"/>
          </p:nvPr>
        </p:nvSpPr>
        <p:spPr>
          <a:xfrm>
            <a:off x="-360" y="47638800"/>
            <a:ext cx="13804920" cy="262908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 type="sldNum" idx="18"/>
          </p:nvPr>
        </p:nvSpPr>
        <p:spPr>
          <a:xfrm>
            <a:off x="17942040" y="47638800"/>
            <a:ext cx="14135040" cy="262908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08640"/>
                <a:tab algn="l" pos="9016920"/>
              </a:tabLst>
              <a:defRPr b="0" lang="en-AU" sz="60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08640"/>
                <a:tab algn="l" pos="9016920"/>
              </a:tabLst>
            </a:pPr>
            <a:fld id="{01D8D342-01CB-4147-9E8D-FF80D6EE43C4}" type="slidenum">
              <a:rPr b="0" lang="en-AU" sz="60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17942040" y="47639160"/>
            <a:ext cx="1413504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0" rIns="450000" tIns="225000" bIns="22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08640"/>
                <a:tab algn="l" pos="9016920"/>
              </a:tabLst>
            </a:pPr>
            <a:fld id="{DD20968E-4B56-4D90-8539-747EC54AFCD0}" type="slidenum">
              <a:rPr b="0" lang="en-AU" sz="6000" spc="-1" strike="noStrike">
                <a:solidFill>
                  <a:srgbClr val="000000"/>
                </a:solidFill>
                <a:latin typeface="Times New Roman"/>
                <a:ea typeface="等线"/>
              </a:rPr>
              <a:t>&lt;number&gt;</a:t>
            </a:fld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6502320" y="3757680"/>
            <a:ext cx="18748440" cy="187484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137120" y="24004080"/>
            <a:ext cx="23456880" cy="225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等线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4AC0-7B48-4250-955F-07AD2B5D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EFD6-F8C6-4200-B677-9EFE18A6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D77F-2894-4DAA-B286-ADF289B6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CB63-F1E8-467C-BC60-E38644F4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548B-FAF8-4B55-AE99-ADC2C073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40FD-FC3B-4156-86B1-9977B007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676B-4174-4E6E-BB34-F17048A7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BA5E-D98F-41BC-B526-1EFA0483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3DFD-5D33-4E8C-A049-1CD8367A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0B28-7325-4372-B0A4-9DA876DB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0D79-EA65-440F-8031-159BA72F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5511-3042-47E0-A992-A84F631F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364A-5479-4E32-8D1E-710DA6EB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B495-6F24-450C-A9A1-33C2EDAC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7B7E-444A-4A02-87EB-1AC7222F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690D-224A-4440-90D6-647FCD12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EEC0-FD5C-41A4-80BC-EF92A1E9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DE829-6B57-4E63-8A2E-741DC00D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501E0-5B61-4223-8936-EFF64D8F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6C747-AFAE-4D43-84F9-B7ACD2D4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3B495-724A-4CD9-BA8B-C1947A4B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591BE-C440-4603-A5ED-5CE877CE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C1EB-42A4-4047-8DD5-7D8584A4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28575-F015-491E-8523-B2BA620A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9AB29-BBCB-4F5F-804F-0129A961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23A1B-48D1-45BA-B5CD-1017A3D4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703B0-129C-4684-85EB-F27EB3DC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5D7DE-6347-4DA6-B56E-77BD2DF7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C75D5-F71E-40F0-A844-C6C97C00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AEB06-8595-4ECF-B874-C83B1353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E116D-E4FC-4CB1-BE43-A2456867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A841A-13CA-46B0-AC07-12AC4563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42ED9-9020-468A-9D1F-A6A1901B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34D6-0380-4694-8DB4-3EDF3937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8A6D1-FD6B-46E0-801A-7D05DA08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78868-C56C-4C49-8422-29780860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3EA72-6B2A-4260-9C6C-3A879E5D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2B3D3-4AB2-4E99-A4EE-1DDA0634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94B20-3D17-4180-9C82-E92F8A84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D81A6-07C9-4F68-9C65-8F13CA19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50768-C91A-4237-88D4-4636B8EB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1FAB5-A22E-455A-AD5E-BF64FF8F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32F4E-5B5D-4D0F-B502-DC03662C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2CFFA-C6A9-41F4-B0BD-EC628628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4D9-D672-4DB3-B983-0161E323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5BACA-6879-4B2B-AB90-C35A1381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6AF7F-DA5F-4EFD-AF0C-61C6E4EE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FD2FD-BE2A-4EB0-A3F4-0BB15FCE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BFAF5-5603-4D30-93D2-A097D21D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29B7A-377B-4393-BDB1-9DA5F090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F8FDE-6F7E-46CB-B5E4-A8369490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15144-535F-4B32-9D15-DD9D7F5E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C559F-2E73-4D3F-A709-0800EBF2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E589F-7A07-4B50-97BE-DFC4A00B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69224-785A-4639-9214-CC31397B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0524-22AB-4917-A26A-58626424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90B79-E484-4CE5-A1F5-F353AC04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4D3C-1110-4E84-AF12-79133589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A71A-58ED-4B53-A160-4A596DB3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A28C-05FE-42E2-97CF-C5866141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43080" y="35704440"/>
            <a:ext cx="733716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722400" y="35704440"/>
            <a:ext cx="129600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124200" y="35704440"/>
            <a:ext cx="888048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7D33B5-1064-4301-8904-6568740596BE}" type="slidenum">
              <a: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751272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3751272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Freeform 5"/>
          <p:cNvSpPr/>
          <p:nvPr/>
        </p:nvSpPr>
        <p:spPr>
          <a:xfrm>
            <a:off x="0" y="0"/>
            <a:ext cx="2852640" cy="384048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8664480" y="3533760"/>
            <a:ext cx="21967920" cy="2928312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97320" y="35704440"/>
            <a:ext cx="733896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3168080" y="35704440"/>
            <a:ext cx="129618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28562040" y="35704440"/>
            <a:ext cx="73371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895e04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C6846-F711-48F0-9F1E-C88EC52243D4}" type="slidenum">
              <a:rPr b="0" lang="en-US" sz="4200" spc="-1" strike="noStrike">
                <a:solidFill>
                  <a:srgbClr val="895e04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0" y="0"/>
            <a:ext cx="8866080" cy="384048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Freeform 11"/>
          <p:cNvSpPr/>
          <p:nvPr/>
        </p:nvSpPr>
        <p:spPr>
          <a:xfrm>
            <a:off x="2754360" y="0"/>
            <a:ext cx="5186160" cy="384048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0" y="0"/>
            <a:ext cx="8866080" cy="38404800"/>
            <a:chOff x="0" y="0"/>
            <a:chExt cx="8866080" cy="38404800"/>
          </a:xfrm>
        </p:grpSpPr>
        <p:sp>
          <p:nvSpPr>
            <p:cNvPr id="91" name="Freeform 8"/>
            <p:cNvSpPr/>
            <p:nvPr/>
          </p:nvSpPr>
          <p:spPr>
            <a:xfrm>
              <a:off x="0" y="0"/>
              <a:ext cx="8866080" cy="384048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2754360" y="0"/>
              <a:ext cx="5185800" cy="384048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ffffff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ffffff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10194480" y="35704440"/>
            <a:ext cx="470556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6628760" y="35704440"/>
            <a:ext cx="129618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31318200" y="35704440"/>
            <a:ext cx="468648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f3f3f2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19C1A8-2589-488E-B0A2-FB5F5B9EAF6D}" type="slidenum">
              <a:rPr b="0" lang="en-US" sz="4200" spc="-1" strike="noStrike">
                <a:solidFill>
                  <a:srgbClr val="f3f3f2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1"/>
          <p:cNvSpPr/>
          <p:nvPr/>
        </p:nvSpPr>
        <p:spPr>
          <a:xfrm>
            <a:off x="23277600" y="0"/>
            <a:ext cx="15127200" cy="384048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2409480" y="35704440"/>
            <a:ext cx="388476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6625800" y="35704440"/>
            <a:ext cx="109695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17926200" y="35704440"/>
            <a:ext cx="38829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45BB20-EB29-4C79-BD55-527B410E2944}" type="slidenum">
              <a: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11"/>
          <p:cNvSpPr/>
          <p:nvPr/>
        </p:nvSpPr>
        <p:spPr>
          <a:xfrm>
            <a:off x="23277600" y="0"/>
            <a:ext cx="15127200" cy="384048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2413080" y="35704440"/>
            <a:ext cx="388152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6625800" y="35704440"/>
            <a:ext cx="109695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17875080" y="35704440"/>
            <a:ext cx="39801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E2AC1-D3C6-435B-B825-2D49E550ECD7}" type="slidenum">
              <a: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44"/>
          <p:cNvSpPr/>
          <p:nvPr/>
        </p:nvSpPr>
        <p:spPr>
          <a:xfrm>
            <a:off x="10229760" y="10490040"/>
            <a:ext cx="8629920" cy="152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380880" indent="-380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Methods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BAE-Net integrates the band attention mechanism into a VITAL tracker  which enhances positive sample data using adversarial learning and deals with class imbalance using a cost-sensitive loss function to suppress negative samples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Specifically, an autoencoder-like architecture is employed to learn the nonlinear relationship among bands and generate their significance while reducing the influence of noise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Subsequently, the spectral bands are reordered according to their importance and partitioned into a number of three-channel image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These images are then passed through VITAL tracker, producing a set of weak trackers which are finally combined via ensemble learning to determine the location of target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19375560" y="10490040"/>
            <a:ext cx="17718120" cy="148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1000080" y="1422360"/>
            <a:ext cx="3640464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540000" tIns="540000" bIns="54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59116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2000" spc="-1" strike="noStrike">
                <a:solidFill>
                  <a:srgbClr val="3399cc"/>
                </a:solidFill>
                <a:latin typeface="Times New Roman"/>
                <a:ea typeface="宋体"/>
              </a:rPr>
              <a:t>           </a:t>
            </a:r>
            <a:r>
              <a:rPr b="1" i="1" lang="en-US" sz="8800" spc="-1" strike="noStrike">
                <a:solidFill>
                  <a:srgbClr val="3399cc"/>
                </a:solidFill>
                <a:latin typeface="Times New Roman"/>
                <a:ea typeface="宋体"/>
              </a:rPr>
              <a:t>BAE-NET: A BAND ATTENTION AWARE ENSEMBLE</a:t>
            </a:r>
            <a:br>
              <a:rPr sz="8800"/>
            </a:br>
            <a:r>
              <a:rPr b="1" i="1" lang="en-AU" sz="8800" spc="-1" strike="noStrike">
                <a:solidFill>
                  <a:srgbClr val="3399cc"/>
                </a:solidFill>
                <a:latin typeface="Times New Roman"/>
                <a:ea typeface="宋体"/>
              </a:rPr>
              <a:t>            </a:t>
            </a:r>
            <a:r>
              <a:rPr b="1" i="1" lang="en-US" sz="8800" spc="-1" strike="noStrike">
                <a:solidFill>
                  <a:srgbClr val="3399cc"/>
                </a:solidFill>
                <a:latin typeface="Times New Roman"/>
                <a:ea typeface="宋体"/>
              </a:rPr>
              <a:t> NETWORK FOR HYPERSPECTRAL OBJECT TRACKING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1028880" y="6272280"/>
            <a:ext cx="3637584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Zhuanfeng Li 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1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 , Fengchao Xiong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 1,∗ 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, Jun Zhou 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2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 , Jing Wang 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2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 , Jianfeng Lu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 1 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, and Yuntao Qian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 3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1 School of Computer Science and Engineering, Nanjing University of Science and Technology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2 School of Information and Communication Technology, Griffith University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3 College of Computer Science, Zhejiang University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Rectangle 18"/>
          <p:cNvSpPr/>
          <p:nvPr/>
        </p:nvSpPr>
        <p:spPr>
          <a:xfrm>
            <a:off x="19886760" y="11828520"/>
            <a:ext cx="8001000" cy="6413400"/>
          </a:xfrm>
          <a:prstGeom prst="rect">
            <a:avLst/>
          </a:prstGeom>
          <a:solidFill>
            <a:srgbClr val="eeeeee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Text Box 60"/>
          <p:cNvSpPr/>
          <p:nvPr/>
        </p:nvSpPr>
        <p:spPr>
          <a:xfrm>
            <a:off x="20726280" y="37249200"/>
            <a:ext cx="166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IEEE International Conference on Image Process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Text Box 69"/>
          <p:cNvSpPr/>
          <p:nvPr/>
        </p:nvSpPr>
        <p:spPr>
          <a:xfrm>
            <a:off x="23317200" y="12012480"/>
            <a:ext cx="4457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Comparison with baseline VITAL tracker with respect to precision plot and success plo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BAE-Net ranks top among all the trackers by achieving 0.616 on AUC metric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VITAL-False and BAE-Net outperform VITAL-HSI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Not all the bands contribute equally to tracking but band ranking can suppress the uninformative band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Text Box 122"/>
          <p:cNvSpPr/>
          <p:nvPr/>
        </p:nvSpPr>
        <p:spPr>
          <a:xfrm>
            <a:off x="1000080" y="10490040"/>
            <a:ext cx="8570880" cy="1477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Tracking on color videos have made great progress, but it has intrinsic limitation in depicting the physical properties of target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Compared to color images, hyperspectral images (HSIs) record continuous spectral reflectance of targets in light wavelength indexed band images. Qian and Xiong et.al proposed  hand-crafted features for object tracking but cannot describe the inherent nature of the data. Uzkent et al. proposed a deep kernelized correlation filter method for tracking but losed valuable spectral information with HSI converted into 3-channel imag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Alternatively, an HSI can be divided into a series of three-channel images with band selection to  select a number of top-ranked bands in order of their importanc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Text Box 123"/>
          <p:cNvSpPr/>
          <p:nvPr/>
        </p:nvSpPr>
        <p:spPr>
          <a:xfrm>
            <a:off x="969840" y="24881040"/>
            <a:ext cx="8575920" cy="1169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Purpose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Hyperspectral videos contain images with a large number of light wavelength indexed bands that can facilitate material identification for object tracking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Most hyperspectral trackers use hand-crafted features rather than deep learning generated features for image representation due to limited training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samples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To fill this gap, this paper introduces a band attention aware ensemble network (BAE-Net) for deep hyperspectral object tracking, which takes advantages of deep models trained on color videos for feature representation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Rectangle 146"/>
          <p:cNvSpPr/>
          <p:nvPr/>
        </p:nvSpPr>
        <p:spPr>
          <a:xfrm>
            <a:off x="28519560" y="25752600"/>
            <a:ext cx="8574120" cy="1142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380880" indent="-380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In this paper, we have introduced a BAE-Net for hyperspectral object tracking. Firstly, the HSIs are split into a group of three-channel images according to the band-wise importance learned by autoencoder-like band attention module. Then the split three-channel images are fed into a deep color tracking network to generate a set of weak trackers. These weak trackers are fused by ensemble learning. Finally, all parameters are learned in an end-to-end manner. Experimental results have proved that proposed method achieves better results than deep color trackers and hyperspectral tracker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9" name="图片 1" descr=""/>
          <p:cNvPicPr/>
          <p:nvPr/>
        </p:nvPicPr>
        <p:blipFill>
          <a:blip r:embed="rId1"/>
          <a:stretch/>
        </p:blipFill>
        <p:spPr>
          <a:xfrm>
            <a:off x="10229760" y="25741440"/>
            <a:ext cx="18134280" cy="46576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50"/>
          <p:cNvSpPr/>
          <p:nvPr/>
        </p:nvSpPr>
        <p:spPr>
          <a:xfrm>
            <a:off x="10233000" y="30399120"/>
            <a:ext cx="18104040" cy="22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380880" indent="-380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 </a:t>
            </a:r>
            <a:r>
              <a:rPr b="0" i="1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An autoencoder-like architecture is used to produce band ranking. The sorted bands are split into a group of three-channel images, which are fed into VITAL to produce weak trackers. Ensemble learning combines weak trackers for object localization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1" name="图片 2" descr=""/>
          <p:cNvPicPr/>
          <p:nvPr/>
        </p:nvPicPr>
        <p:blipFill>
          <a:blip r:embed="rId2"/>
          <a:stretch/>
        </p:blipFill>
        <p:spPr>
          <a:xfrm>
            <a:off x="10229760" y="32696280"/>
            <a:ext cx="9145800" cy="4483080"/>
          </a:xfrm>
          <a:prstGeom prst="rect">
            <a:avLst/>
          </a:prstGeom>
          <a:ln w="0">
            <a:noFill/>
          </a:ln>
        </p:spPr>
      </p:pic>
      <p:pic>
        <p:nvPicPr>
          <p:cNvPr id="242" name="Rectangle 150" descr=""/>
          <p:cNvPicPr/>
          <p:nvPr/>
        </p:nvPicPr>
        <p:blipFill>
          <a:blip r:embed="rId3"/>
          <a:stretch/>
        </p:blipFill>
        <p:spPr>
          <a:xfrm>
            <a:off x="19373760" y="32693040"/>
            <a:ext cx="9033120" cy="448632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4" descr=""/>
          <p:cNvPicPr/>
          <p:nvPr/>
        </p:nvPicPr>
        <p:blipFill>
          <a:blip r:embed="rId4"/>
          <a:stretch/>
        </p:blipFill>
        <p:spPr>
          <a:xfrm>
            <a:off x="20142360" y="11926800"/>
            <a:ext cx="3009600" cy="276876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8"/>
          <p:cNvSpPr/>
          <p:nvPr/>
        </p:nvSpPr>
        <p:spPr>
          <a:xfrm>
            <a:off x="19886760" y="18695880"/>
            <a:ext cx="8001000" cy="6411960"/>
          </a:xfrm>
          <a:prstGeom prst="rect">
            <a:avLst/>
          </a:prstGeom>
          <a:solidFill>
            <a:srgbClr val="eeeeee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Text Box 69"/>
          <p:cNvSpPr/>
          <p:nvPr/>
        </p:nvSpPr>
        <p:spPr>
          <a:xfrm>
            <a:off x="23317200" y="18878400"/>
            <a:ext cx="4457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Comparison with hyperspectral tracker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BAE-Net ranks the top as it considers the importance of different bands before deep feature extraction and fuse the tracking results from weak trackers using ensemble learning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MHT obtains better results than DeepHKCF and CNHT since it considers spectral-spatial structure of HSI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6" name="图片 6" descr=""/>
          <p:cNvPicPr/>
          <p:nvPr/>
        </p:nvPicPr>
        <p:blipFill>
          <a:blip r:embed="rId5"/>
          <a:stretch/>
        </p:blipFill>
        <p:spPr>
          <a:xfrm>
            <a:off x="20105640" y="18797760"/>
            <a:ext cx="2989440" cy="279072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8" descr=""/>
          <p:cNvPicPr/>
          <p:nvPr/>
        </p:nvPicPr>
        <p:blipFill>
          <a:blip r:embed="rId6"/>
          <a:stretch/>
        </p:blipFill>
        <p:spPr>
          <a:xfrm>
            <a:off x="20081880" y="21904200"/>
            <a:ext cx="3070080" cy="245592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9" descr=""/>
          <p:cNvPicPr/>
          <p:nvPr/>
        </p:nvPicPr>
        <p:blipFill>
          <a:blip r:embed="rId7"/>
          <a:stretch/>
        </p:blipFill>
        <p:spPr>
          <a:xfrm>
            <a:off x="20086560" y="14946480"/>
            <a:ext cx="3008520" cy="25016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8"/>
          <p:cNvSpPr/>
          <p:nvPr/>
        </p:nvSpPr>
        <p:spPr>
          <a:xfrm>
            <a:off x="28258920" y="11828520"/>
            <a:ext cx="8001000" cy="6435720"/>
          </a:xfrm>
          <a:prstGeom prst="rect">
            <a:avLst/>
          </a:prstGeom>
          <a:solidFill>
            <a:srgbClr val="eeeeee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0" name="图片 10" descr=""/>
          <p:cNvPicPr/>
          <p:nvPr/>
        </p:nvPicPr>
        <p:blipFill>
          <a:blip r:embed="rId8"/>
          <a:stretch/>
        </p:blipFill>
        <p:spPr>
          <a:xfrm>
            <a:off x="28366920" y="11950560"/>
            <a:ext cx="7689960" cy="20116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9"/>
          <p:cNvSpPr/>
          <p:nvPr/>
        </p:nvSpPr>
        <p:spPr>
          <a:xfrm>
            <a:off x="28435320" y="14114520"/>
            <a:ext cx="7648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Table 1. Comparison of AUC with deep color trackers. Red and blue mark the top two valu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All these alternative trackers were run on both color videos and false-color video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Almost all trackers provide better AUCs on color videos because HSI are of lower spatial resolution and contain more nois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BAE-Net achieves the best AUC on HSI videos thanks to the embedded band attention module and ensemble learning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28290960" y="18695880"/>
            <a:ext cx="8001000" cy="6411960"/>
          </a:xfrm>
          <a:prstGeom prst="rect">
            <a:avLst/>
          </a:prstGeom>
          <a:solidFill>
            <a:srgbClr val="eeeeee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3" name="图片 15" descr=""/>
          <p:cNvPicPr/>
          <p:nvPr/>
        </p:nvPicPr>
        <p:blipFill>
          <a:blip r:embed="rId9"/>
          <a:stretch/>
        </p:blipFill>
        <p:spPr>
          <a:xfrm>
            <a:off x="29346480" y="18745200"/>
            <a:ext cx="6086520" cy="52293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69"/>
          <p:cNvSpPr/>
          <p:nvPr/>
        </p:nvSpPr>
        <p:spPr>
          <a:xfrm>
            <a:off x="28551240" y="2392200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Fig. Demonstration of visual tracking result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HSIs, which visualizes the tracking results on pedestrian2, playground and student sequenc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5" name="图片 18" descr=""/>
          <p:cNvPicPr/>
          <p:nvPr/>
        </p:nvPicPr>
        <p:blipFill>
          <a:blip r:embed="rId10"/>
          <a:stretch/>
        </p:blipFill>
        <p:spPr>
          <a:xfrm>
            <a:off x="533520" y="1422360"/>
            <a:ext cx="4343400" cy="417024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81" descr=""/>
          <p:cNvPicPr/>
          <p:nvPr/>
        </p:nvPicPr>
        <p:blipFill>
          <a:blip r:embed="rId11"/>
          <a:stretch/>
        </p:blipFill>
        <p:spPr>
          <a:xfrm>
            <a:off x="33527880" y="1422360"/>
            <a:ext cx="434340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4T05:44:18Z</dcterms:created>
  <dc:creator/>
  <dc:description>MakeSigns.com
1.800.347.2744</dc:description>
  <dc:language>en-US</dc:language>
  <cp:lastModifiedBy>m18795903919@163.com</cp:lastModifiedBy>
  <cp:lastPrinted>2006-11-15T16:04:57Z</cp:lastPrinted>
  <dcterms:modified xsi:type="dcterms:W3CDTF">2020-11-03T04:53:25Z</dcterms:modified>
  <cp:revision>301</cp:revision>
  <dc:subject/>
  <dc:title>Slide 1</dc:title>
</cp:coreProperties>
</file>