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38404800" cy="38404800"/>
  <p:notesSz cx="31953200" cy="50147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31953600" cy="501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17942040" y="-36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6501960" y="3757320"/>
            <a:ext cx="18748440" cy="1874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4763880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17942040" y="4763880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  <a:defRPr b="0" lang="en-AU" sz="60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</a:pPr>
            <a:fld id="{0C0E9E4F-8900-4434-821C-15434E867D0F}" type="slidenum">
              <a:rPr b="0" lang="en-AU" sz="60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7942040" y="47639160"/>
            <a:ext cx="141350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0" rIns="450000" tIns="225000" bIns="22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8640"/>
                <a:tab algn="l" pos="9016920"/>
              </a:tabLst>
            </a:pPr>
            <a:fld id="{32046496-13A0-4650-BC95-F9BD6C3B240E}" type="slidenum">
              <a:rPr b="0" lang="en-AU" sz="6000" spc="-1" strike="noStrike">
                <a:solidFill>
                  <a:srgbClr val="000000"/>
                </a:solidFill>
                <a:latin typeface="Times New Roman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502320" y="3757680"/>
            <a:ext cx="18748440" cy="18748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C62-1E9C-4B2A-B49A-D07AA223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1AF-BB05-4D39-96F1-302B2A8A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F4E-6F37-4993-97C6-4558857A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851-BC3F-41D0-8EFE-37EBA7A2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3C1E-2864-4C16-8093-9DC9A6D2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DC7E-40FD-407C-8B96-1E2881AF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B6C4-0811-4B39-8B6D-9FBD972A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B382-3162-4DD8-8914-AD806E1A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730C-A5F0-4DF4-B209-8E410ADB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16B0-1207-4CA3-86B3-29B60755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C349-E306-435E-9BC4-C3EE62FA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BCA-94C6-4E5A-8C8B-D5D74262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A773-7F9B-42BB-9C4E-69046571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06E7-C5F3-4244-A845-1D459FA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596E-AE2B-42D3-B06B-7F30887E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4BF6-08BD-4685-938B-0F8C29D1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8F43-CE5E-4054-B494-79BC6BED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AE27-C426-4054-9EFE-0279ABDD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351C-E7D6-42F5-AC0C-AA01DFA1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DC49-A221-4A08-862D-40F65FB8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78AF-31FB-412D-8444-6A7DFC0D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E493-F331-4DDB-A8DE-425B0512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6A5-0F32-4F3F-AE77-02F0EB55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F59C-B569-4B2B-AB73-F2C17EA7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9D33-78FD-4D0D-A537-25B8F595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11F5-E943-4303-BAD1-C927AD0C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97AFC-5F02-4C31-9335-3E6407F0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A78C-5851-49E1-9E0F-8DB85D11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C35E-8E5A-4EB7-9904-BC74F79F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619B-CF41-41F5-938C-8E2DACC8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5869-1AAB-4C0E-8F58-C2F40DBC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41C0-EA09-400D-BF51-754B2CF5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36888-80A3-4DCC-B68F-67D3F4AB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AE5-9283-4E52-A75A-44FCEE6A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9BCFB-41AC-440D-A680-19680BC2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5146C-2106-4A11-8F01-801376E0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E782-2701-4769-8E85-F0AEA2BF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7329-7A18-4E9D-B7D2-BD43FF4D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90E35-1262-4BB5-AC9D-604B122B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E016-A6ED-4174-B833-DE6535F6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F511-708E-48D6-8445-7ABF4B38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A5AB-71E2-4D94-8A13-21F2AE99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D230D-763E-4282-B514-7A467018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4BD34-2501-4329-A84C-024F00FF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836-CA50-4E2F-824F-271C6C7A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10D34-4B6F-4DE8-8135-4699B880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5257-581D-443D-BE96-2A209FAB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43A86-787E-444E-9ED5-74946EDA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42398-CE3F-44AD-9855-D540EBAF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68EA6-5847-4E32-961E-097885F0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ADA24-8074-42C1-8270-4B4419BA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072D1-47BA-4709-9E6C-7B222133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96551-FB48-48C5-8D73-69436499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89429-8D2C-4081-BB5E-368D2C83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E659B-7EE8-4583-8A6B-0BA96D9F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09A-827E-4CDC-B159-6EEB4508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097D-1EAF-426C-A9C3-C5A9E1D2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C0A-8E9E-465E-AAB4-9A0A3767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DA0-505C-4D07-B8E2-5F0D24AD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9C1-0D52-4FC6-B40B-E2151DF8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3080" y="35704440"/>
            <a:ext cx="73371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722400" y="35704440"/>
            <a:ext cx="129600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124200" y="35704440"/>
            <a:ext cx="8880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C7C61-496E-4289-A3F4-E493F300BCAF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2852640" cy="384048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8664480" y="3533760"/>
            <a:ext cx="21967920" cy="2928312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97320" y="35704440"/>
            <a:ext cx="73389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316808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8562040" y="35704440"/>
            <a:ext cx="7337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E829D-0D26-47E1-B771-778A34133904}" type="slidenum">
              <a: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8866080" cy="384048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2754360" y="0"/>
            <a:ext cx="5186160" cy="384048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8866080" cy="38404800"/>
            <a:chOff x="0" y="0"/>
            <a:chExt cx="8866080" cy="384048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8866080" cy="384048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754360" y="0"/>
              <a:ext cx="5185800" cy="384048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0194480" y="35704440"/>
            <a:ext cx="47055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662876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31318200" y="35704440"/>
            <a:ext cx="4686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25CBA-6546-48CC-A45F-BDECB7691066}" type="slidenum">
              <a: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2409480" y="35704440"/>
            <a:ext cx="38847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7926200" y="35704440"/>
            <a:ext cx="38829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F48F2-FCBF-4166-9A4F-B5562B3E028D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2413080" y="35704440"/>
            <a:ext cx="38815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17875080" y="35704440"/>
            <a:ext cx="3980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69367-C5C2-45F8-BCA0-8BE3C2178642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4"/>
          <p:cNvSpPr/>
          <p:nvPr/>
        </p:nvSpPr>
        <p:spPr>
          <a:xfrm>
            <a:off x="10229760" y="10490040"/>
            <a:ext cx="8629920" cy="152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BAE-Net integrates the band attention mechanism into a VITAL tracker  which enhances positive sample data using adversarial learning and deals with class imbalance using a cost-sensitive loss function to suppress negative 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pecifically, an autoencoder-like architecture is employed to learn the nonlinear relationship among bands and generate their significance while reducing the influence of nois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ubsequently, the spectral bands are reordered according to their importance and partitioned into a number of three-channel imag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hese images are then passed through VITAL tracker, producing a set of weak trackers which are finally combined via ensemble learning to determine the location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19375560" y="10490040"/>
            <a:ext cx="17718120" cy="148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00080" y="1422360"/>
            <a:ext cx="364046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540000" tIns="540000" bIns="54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9116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BAE-NET: A BAND ATTENTION AWARE ENSEMBLE</a:t>
            </a:r>
            <a:br>
              <a:rPr sz="8800"/>
            </a:br>
            <a:r>
              <a:rPr b="1" i="1" lang="en-AU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NETWORK FOR HYPERSPECTRAL OBJECT TRACKING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28880" y="6272280"/>
            <a:ext cx="363758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Zhuanfeng Li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1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Fengchao Xiong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,∗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Jun Zhou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ng Wang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anfeng Lu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and Yuntao Qian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3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1 School of Computer Science and Engineering, Nanjing University of Science and Technolog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2 School of Information and Communication Technology, Griffith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3 College of Computer Science, Zhejiang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9886760" y="11828520"/>
            <a:ext cx="8001000" cy="641340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Text Box 60"/>
          <p:cNvSpPr/>
          <p:nvPr/>
        </p:nvSpPr>
        <p:spPr>
          <a:xfrm>
            <a:off x="20726280" y="37249200"/>
            <a:ext cx="16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EEE International Conference on Image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23317200" y="1201248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baseline VITAL tracker with respect to precision plot and success plo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op among all the trackers by achieving 0.616 on AUC metr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VITAL-False and BAE-Net outperform VITAL-HS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Not all the bands contribute equally to tracking but band ranking can suppress the uninformative ban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Text Box 122"/>
          <p:cNvSpPr/>
          <p:nvPr/>
        </p:nvSpPr>
        <p:spPr>
          <a:xfrm>
            <a:off x="1000080" y="10490040"/>
            <a:ext cx="8570880" cy="1477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racking on color videos have made great progress, but it has intrinsic limitation in depicting the physical properties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Compared to color images, hyperspectral images (HSIs) record continuous spectral reflectance of targets in light wavelength indexed band images. Qian and Xiong et.al proposed  hand-crafted features for object tracking but cannot describe the inherent nature of the data. Uzkent et al. proposed a deep kernelized correlation filter method for tracking but losed valuable spectral information with HSI converted into 3-channel imag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lternatively, an HSI can be divided into a series of three-channel images with band selection to  select a number of top-ranked bands in order of their importan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Text Box 123"/>
          <p:cNvSpPr/>
          <p:nvPr/>
        </p:nvSpPr>
        <p:spPr>
          <a:xfrm>
            <a:off x="969840" y="24881040"/>
            <a:ext cx="8575920" cy="1169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Purpos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Hyperspectral videos contain images with a large number of light wavelength indexed bands that can facilitate material identification for object tracking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Most hyperspectral trackers use hand-crafted features rather than deep learning generated features for image representation due to limited trai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o fill this gap, this paper introduces a band attention aware ensemble network (BAE-Net) for deep hyperspectral object tracking, which takes advantages of deep models trained on color videos for feature represent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Rectangle 146"/>
          <p:cNvSpPr/>
          <p:nvPr/>
        </p:nvSpPr>
        <p:spPr>
          <a:xfrm>
            <a:off x="28519560" y="25752600"/>
            <a:ext cx="8574120" cy="11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In this paper, we have introduced a BAE-Net for hyperspectral object tracking. Firstly, the HSIs are split into a group of three-channel images according to the band-wise importance learned by autoencoder-like band attention module. Then the split three-channel images are fed into a deep color tracking network to generate a set of weak trackers. These weak trackers are fused by ensemble learning. Finally, all parameters are learned in an end-to-end manner. Experimental results have proved that proposed method achieves better results than deep color trackers and hyperspectral tracker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10229760" y="25741440"/>
            <a:ext cx="18134280" cy="4657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50"/>
          <p:cNvSpPr/>
          <p:nvPr/>
        </p:nvSpPr>
        <p:spPr>
          <a:xfrm>
            <a:off x="10233000" y="30399120"/>
            <a:ext cx="18104040" cy="22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n autoencoder-like architecture is used to produce band ranking. The sorted bands are split into a group of three-channel images, which are fed into VITAL to produce weak trackers. Ensemble learning combines weak trackers for object localiz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1" name="图片 2" descr=""/>
          <p:cNvPicPr/>
          <p:nvPr/>
        </p:nvPicPr>
        <p:blipFill>
          <a:blip r:embed="rId2"/>
          <a:stretch/>
        </p:blipFill>
        <p:spPr>
          <a:xfrm>
            <a:off x="10229760" y="32696280"/>
            <a:ext cx="9145800" cy="44830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50" descr=""/>
          <p:cNvPicPr/>
          <p:nvPr/>
        </p:nvPicPr>
        <p:blipFill>
          <a:blip r:embed="rId3"/>
          <a:stretch/>
        </p:blipFill>
        <p:spPr>
          <a:xfrm>
            <a:off x="19373760" y="32693040"/>
            <a:ext cx="9033120" cy="44863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" descr=""/>
          <p:cNvPicPr/>
          <p:nvPr/>
        </p:nvPicPr>
        <p:blipFill>
          <a:blip r:embed="rId4"/>
          <a:stretch/>
        </p:blipFill>
        <p:spPr>
          <a:xfrm>
            <a:off x="20142360" y="11926800"/>
            <a:ext cx="3009600" cy="27687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198867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Text Box 69"/>
          <p:cNvSpPr/>
          <p:nvPr/>
        </p:nvSpPr>
        <p:spPr>
          <a:xfrm>
            <a:off x="23317200" y="1887840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hyperspectral track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he top as it considers the importance of different bands before deep feature extraction and fuse the tracking results from weak trackers using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MHT obtains better results than DeepHKCF and CNHT since it considers spectral-spatial structure of H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图片 6" descr=""/>
          <p:cNvPicPr/>
          <p:nvPr/>
        </p:nvPicPr>
        <p:blipFill>
          <a:blip r:embed="rId5"/>
          <a:stretch/>
        </p:blipFill>
        <p:spPr>
          <a:xfrm>
            <a:off x="20105640" y="18797760"/>
            <a:ext cx="2989440" cy="27907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" descr=""/>
          <p:cNvPicPr/>
          <p:nvPr/>
        </p:nvPicPr>
        <p:blipFill>
          <a:blip r:embed="rId6"/>
          <a:stretch/>
        </p:blipFill>
        <p:spPr>
          <a:xfrm>
            <a:off x="20081880" y="21904200"/>
            <a:ext cx="3070080" cy="24559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" descr=""/>
          <p:cNvPicPr/>
          <p:nvPr/>
        </p:nvPicPr>
        <p:blipFill>
          <a:blip r:embed="rId7"/>
          <a:stretch/>
        </p:blipFill>
        <p:spPr>
          <a:xfrm>
            <a:off x="20086560" y="14946480"/>
            <a:ext cx="3008520" cy="25016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"/>
          <p:cNvSpPr/>
          <p:nvPr/>
        </p:nvSpPr>
        <p:spPr>
          <a:xfrm>
            <a:off x="28258920" y="11828520"/>
            <a:ext cx="8001000" cy="643572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8"/>
          <a:stretch/>
        </p:blipFill>
        <p:spPr>
          <a:xfrm>
            <a:off x="28366920" y="11950560"/>
            <a:ext cx="7689960" cy="2011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9"/>
          <p:cNvSpPr/>
          <p:nvPr/>
        </p:nvSpPr>
        <p:spPr>
          <a:xfrm>
            <a:off x="28435320" y="14114520"/>
            <a:ext cx="7648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Table 1. Comparison of AUC with deep color trackers. Red and blue mark the top two valu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l these alternative trackers were run on both color videos and false-color video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most all trackers provide better AUCs on color videos because HSI are of lower spatial resolution and contain more nois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achieves the best AUC on HSI videos thanks to the embedded band attention module and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282909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9"/>
          <a:stretch/>
        </p:blipFill>
        <p:spPr>
          <a:xfrm>
            <a:off x="29346480" y="18745200"/>
            <a:ext cx="6086520" cy="5229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9"/>
          <p:cNvSpPr/>
          <p:nvPr/>
        </p:nvSpPr>
        <p:spPr>
          <a:xfrm>
            <a:off x="28551240" y="23922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Fig. Demonstration of visual tracking resul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HSIs, which visualizes the tracking results on pedestrian2, playground and student sequenc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5" name="图片 18" descr=""/>
          <p:cNvPicPr/>
          <p:nvPr/>
        </p:nvPicPr>
        <p:blipFill>
          <a:blip r:embed="rId10"/>
          <a:stretch/>
        </p:blipFill>
        <p:spPr>
          <a:xfrm>
            <a:off x="533520" y="1422360"/>
            <a:ext cx="4343400" cy="41702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1" descr=""/>
          <p:cNvPicPr/>
          <p:nvPr/>
        </p:nvPicPr>
        <p:blipFill>
          <a:blip r:embed="rId11"/>
          <a:stretch/>
        </p:blipFill>
        <p:spPr>
          <a:xfrm>
            <a:off x="33527880" y="1422360"/>
            <a:ext cx="4343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05:44:18Z</dcterms:created>
  <dc:creator/>
  <dc:description>MakeSigns.com
1.800.347.2744</dc:description>
  <dc:language>en-US</dc:language>
  <cp:lastModifiedBy>m18795903919@163.com</cp:lastModifiedBy>
  <cp:lastPrinted>2006-11-15T16:04:57Z</cp:lastPrinted>
  <dcterms:modified xsi:type="dcterms:W3CDTF">2020-11-03T04:53:25Z</dcterms:modified>
  <cp:revision>301</cp:revision>
  <dc:subject/>
  <dc:title>Slide 1</dc:title>
</cp:coreProperties>
</file>