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38404800" cy="38404800"/>
  <p:notesSz cx="31953200" cy="50147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31953600" cy="501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17942040" y="-36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6501960" y="3757320"/>
            <a:ext cx="18748440" cy="1874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4763880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17942040" y="4763880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  <a:defRPr b="0" lang="en-AU" sz="60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</a:pPr>
            <a:fld id="{29E59B95-694D-4145-8A90-EAA29B38FE74}" type="slidenum">
              <a:rPr b="0" lang="en-AU" sz="60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7942040" y="47639160"/>
            <a:ext cx="141350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0" rIns="450000" tIns="225000" bIns="22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8640"/>
                <a:tab algn="l" pos="9016920"/>
              </a:tabLst>
            </a:pPr>
            <a:fld id="{A55980AC-B8FB-4D65-B9DE-F441B1EF40A0}" type="slidenum">
              <a:rPr b="0" lang="en-AU" sz="6000" spc="-1" strike="noStrike">
                <a:solidFill>
                  <a:srgbClr val="000000"/>
                </a:solidFill>
                <a:latin typeface="Times New Roman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502320" y="3757680"/>
            <a:ext cx="18748440" cy="18748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030-0F01-4354-99CE-D164C3C0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074-4050-4F0F-A9F9-F1F709BD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2C5-CBC1-447C-8177-C33D5B66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936-1A70-4B8E-9527-2F2EFE0B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3479-E99E-4E73-B635-D6B7F3E5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533B-4B63-4113-96FE-3B0B654C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C0F9-EF65-4FA2-A764-A086B66A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B89D-8293-4341-9906-06DD8B4F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BF32-C737-40F0-9F0A-4E110EF6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68C5-4255-4390-8134-EE0B04C3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602A-7E0E-4311-95E8-E2EB97F1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066-2385-4D3A-9D54-790FA749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E0D9-D568-44EE-85FC-F4C2E8ED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FFBD-99C5-4DD0-9CFC-874AED1C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9A76-CB5D-46B3-889D-E4C45CE5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8D1C-DF9B-4808-ADF9-0B2BBC32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166B-B437-4264-BF0E-1B80409F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EFEC7-62EC-4DE1-9FAE-88B7F856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E9254-75CA-427F-A77B-5B53442C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59A0-85EF-49B7-9096-515695A7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CC46-4EA2-4024-82E5-46BFDF22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1FC7-00F2-4FA4-963F-72C8E51E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2B7B-BC05-455E-9D49-7331E710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CA9E-81F6-4B4A-B29F-59134B0E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ACF7-BC28-4F7A-A1FA-402D326F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9C2D6-E020-4378-8BCF-B9FC2B33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0C25-CD3C-4142-B96E-1C85BAFE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CFA2D-D961-4D55-BE30-30FD3937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AEBC-3225-4139-B50D-96170A26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4A5E-3FEA-4C01-9BA2-5101722A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69516-B4C8-44CD-A05B-FBAC2BBD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8CC60-54D3-43EA-8924-CEE6776C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F76F-49B2-4AB7-AC4A-EF1DF50C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D061-8959-4263-ABF2-367DD551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77F7-6307-41BC-924B-83A5EE87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7BD7-1CB2-4123-A294-60371FDA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1A2F-EC3D-48E4-A3BB-A6C578A7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1734E-AAAB-4480-832A-FBE4FE1C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5342B-0F25-4001-9FC9-BDA5732B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2A7D0-5001-4499-92D7-4D45F57C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DDF0F-3CF4-4027-A9E9-50D17EF8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D364-E4D5-4D68-BCA6-D3CB474B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160F0-4FCF-469C-B64E-18CF1C66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89319-BAF1-4DF4-A870-7A241A7A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020-2CB7-4C9E-B957-D8CDAE66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1579A-F01A-46FE-96EE-21A76A3D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FFEDA-E109-47E0-B292-CE152578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31CAA-828D-4371-826B-EA41C1AE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B059-7AC3-405F-87CE-FFDA5764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D2DEF-7299-4FC2-BE55-3697A979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73BE0-4A75-4441-AF9C-E534C995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BD3A8-E311-45AF-B19A-1EC175D8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1A92-CDC4-455A-80E5-C3C820F9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78652-08BA-4C65-97DC-DD350E0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E9525-ECA8-42BF-9029-378EF7E2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509-A792-4B81-A5E5-9AD50804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9F3FA-60CD-485F-BF08-9903A949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112-5DC6-4590-ACBE-B34347B4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21A-1133-48FF-A2CF-F9539D6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BD3-7056-41AB-A9E3-7C6B345B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3080" y="35704440"/>
            <a:ext cx="73371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722400" y="35704440"/>
            <a:ext cx="129600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124200" y="35704440"/>
            <a:ext cx="8880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8BA6C-A108-4CB8-BA13-2587CB44BC9A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2852640" cy="384048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8664480" y="3533760"/>
            <a:ext cx="21967920" cy="2928312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97320" y="35704440"/>
            <a:ext cx="73389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316808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8562040" y="35704440"/>
            <a:ext cx="7337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648F2-E5B2-405F-9F4C-1B5DE465DF1A}" type="slidenum">
              <a: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8866080" cy="384048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2754360" y="0"/>
            <a:ext cx="5186160" cy="384048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8866080" cy="38404800"/>
            <a:chOff x="0" y="0"/>
            <a:chExt cx="8866080" cy="384048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8866080" cy="384048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754360" y="0"/>
              <a:ext cx="5185800" cy="384048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0194480" y="35704440"/>
            <a:ext cx="47055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662876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31318200" y="35704440"/>
            <a:ext cx="4686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B3A2E-C6DC-45CB-B66E-168B928CB072}" type="slidenum">
              <a: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2409480" y="35704440"/>
            <a:ext cx="38847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7926200" y="35704440"/>
            <a:ext cx="38829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4FB222-F7C4-4019-87A9-00E690235A9F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2413080" y="35704440"/>
            <a:ext cx="38815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17875080" y="35704440"/>
            <a:ext cx="3980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6AC84-C588-45BF-BB98-1E2576ADD4C0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4"/>
          <p:cNvSpPr/>
          <p:nvPr/>
        </p:nvSpPr>
        <p:spPr>
          <a:xfrm>
            <a:off x="10229760" y="10490040"/>
            <a:ext cx="8629920" cy="152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BAE-Net integrates the band attention mechanism into a VITAL tracker  which enhances positive sample data using adversarial learning and deals with class imbalance using a cost-sensitive loss function to suppress negative 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pecifically, an autoencoder-like architecture is employed to learn the nonlinear relationship among bands and generate their significance while reducing the influence of nois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ubsequently, the spectral bands are reordered according to their importance and partitioned into a number of three-channel imag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hese images are then passed through VITAL tracker, producing a set of weak trackers which are finally combined via ensemble learning to determine the location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19375560" y="10490040"/>
            <a:ext cx="17718120" cy="148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00080" y="1422360"/>
            <a:ext cx="364046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540000" tIns="540000" bIns="54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9116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BAE-NET: A BAND ATTENTION AWARE ENSEMBLE</a:t>
            </a:r>
            <a:br>
              <a:rPr sz="8800"/>
            </a:br>
            <a:r>
              <a:rPr b="1" i="1" lang="en-AU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NETWORK FOR HYPERSPECTRAL OBJECT TRACKING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28880" y="6272280"/>
            <a:ext cx="363758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Zhuanfeng Li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1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Fengchao Xiong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,∗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Jun Zhou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ng Wang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anfeng Lu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and Yuntao Qian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3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1 School of Computer Science and Engineering, Nanjing University of Science and Technolog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2 School of Information and Communication Technology, Griffith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3 College of Computer Science, Zhejiang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9886760" y="11828520"/>
            <a:ext cx="8001000" cy="641340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Text Box 60"/>
          <p:cNvSpPr/>
          <p:nvPr/>
        </p:nvSpPr>
        <p:spPr>
          <a:xfrm>
            <a:off x="20726280" y="37249200"/>
            <a:ext cx="16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EEE International Conference on Image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23317200" y="1201248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baseline VITAL tracker with respect to precision plot and success plo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op among all the trackers by achieving 0.616 on AUC metr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VITAL-False and BAE-Net outperform VITAL-HS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Not all the bands contribute equally to tracking but band ranking can suppress the uninformative ban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Text Box 122"/>
          <p:cNvSpPr/>
          <p:nvPr/>
        </p:nvSpPr>
        <p:spPr>
          <a:xfrm>
            <a:off x="1000080" y="10490040"/>
            <a:ext cx="8570880" cy="1477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racking on color videos have made great progress, but it has intrinsic limitation in depicting the physical properties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Compared to color images, hyperspectral images (HSIs) record continuous spectral reflectance of targets in light wavelength indexed band images. Qian and Xiong et.al proposed  hand-crafted features for object tracking but cannot describe the inherent nature of the data. Uzkent et al. proposed a deep kernelized correlation filter method for tracking but losed valuable spectral information with HSI converted into 3-channel imag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lternatively, an HSI can be divided into a series of three-channel images with band selection to  select a number of top-ranked bands in order of their importan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Text Box 123"/>
          <p:cNvSpPr/>
          <p:nvPr/>
        </p:nvSpPr>
        <p:spPr>
          <a:xfrm>
            <a:off x="969840" y="24881040"/>
            <a:ext cx="8575920" cy="1169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Purpos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Hyperspectral videos contain images with a large number of light wavelength indexed bands that can facilitate material identification for object tracking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Most hyperspectral trackers use hand-crafted features rather than deep learning generated features for image representation due to limited trai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o fill this gap, this paper introduces a band attention aware ensemble network (BAE-Net) for deep hyperspectral object tracking, which takes advantages of deep models trained on color videos for feature represent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Rectangle 146"/>
          <p:cNvSpPr/>
          <p:nvPr/>
        </p:nvSpPr>
        <p:spPr>
          <a:xfrm>
            <a:off x="28519560" y="25752600"/>
            <a:ext cx="8574120" cy="11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In this paper, we have introduced a BAE-Net for hyperspectral object tracking. Firstly, the HSIs are split into a group of three-channel images according to the band-wise importance learned by autoencoder-like band attention module. Then the split three-channel images are fed into a deep color tracking network to generate a set of weak trackers. These weak trackers are fused by ensemble learning. Finally, all parameters are learned in an end-to-end manner. Experimental results have proved that proposed method achieves better results than deep color trackers and hyperspectral tracker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10229760" y="25741440"/>
            <a:ext cx="18134280" cy="4657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50"/>
          <p:cNvSpPr/>
          <p:nvPr/>
        </p:nvSpPr>
        <p:spPr>
          <a:xfrm>
            <a:off x="10233000" y="30399120"/>
            <a:ext cx="18104040" cy="22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n autoencoder-like architecture is used to produce band ranking. The sorted bands are split into a group of three-channel images, which are fed into VITAL to produce weak trackers. Ensemble learning combines weak trackers for object localiz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1" name="图片 2" descr=""/>
          <p:cNvPicPr/>
          <p:nvPr/>
        </p:nvPicPr>
        <p:blipFill>
          <a:blip r:embed="rId2"/>
          <a:stretch/>
        </p:blipFill>
        <p:spPr>
          <a:xfrm>
            <a:off x="10229760" y="32696280"/>
            <a:ext cx="9145800" cy="44830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50" descr=""/>
          <p:cNvPicPr/>
          <p:nvPr/>
        </p:nvPicPr>
        <p:blipFill>
          <a:blip r:embed="rId3"/>
          <a:stretch/>
        </p:blipFill>
        <p:spPr>
          <a:xfrm>
            <a:off x="19373760" y="32693040"/>
            <a:ext cx="9033120" cy="44863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" descr=""/>
          <p:cNvPicPr/>
          <p:nvPr/>
        </p:nvPicPr>
        <p:blipFill>
          <a:blip r:embed="rId4"/>
          <a:stretch/>
        </p:blipFill>
        <p:spPr>
          <a:xfrm>
            <a:off x="20142360" y="11926800"/>
            <a:ext cx="3009600" cy="27687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198867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Text Box 69"/>
          <p:cNvSpPr/>
          <p:nvPr/>
        </p:nvSpPr>
        <p:spPr>
          <a:xfrm>
            <a:off x="23317200" y="1887840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hyperspectral track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he top as it considers the importance of different bands before deep feature extraction and fuse the tracking results from weak trackers using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MHT obtains better results than DeepHKCF and CNHT since it considers spectral-spatial structure of H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图片 6" descr=""/>
          <p:cNvPicPr/>
          <p:nvPr/>
        </p:nvPicPr>
        <p:blipFill>
          <a:blip r:embed="rId5"/>
          <a:stretch/>
        </p:blipFill>
        <p:spPr>
          <a:xfrm>
            <a:off x="20105640" y="18797760"/>
            <a:ext cx="2989440" cy="27907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" descr=""/>
          <p:cNvPicPr/>
          <p:nvPr/>
        </p:nvPicPr>
        <p:blipFill>
          <a:blip r:embed="rId6"/>
          <a:stretch/>
        </p:blipFill>
        <p:spPr>
          <a:xfrm>
            <a:off x="20081880" y="21904200"/>
            <a:ext cx="3070080" cy="24559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" descr=""/>
          <p:cNvPicPr/>
          <p:nvPr/>
        </p:nvPicPr>
        <p:blipFill>
          <a:blip r:embed="rId7"/>
          <a:stretch/>
        </p:blipFill>
        <p:spPr>
          <a:xfrm>
            <a:off x="20086560" y="14946480"/>
            <a:ext cx="3008520" cy="25016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"/>
          <p:cNvSpPr/>
          <p:nvPr/>
        </p:nvSpPr>
        <p:spPr>
          <a:xfrm>
            <a:off x="28258920" y="11828520"/>
            <a:ext cx="8001000" cy="643572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8"/>
          <a:stretch/>
        </p:blipFill>
        <p:spPr>
          <a:xfrm>
            <a:off x="28366920" y="11950560"/>
            <a:ext cx="7689960" cy="2011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9"/>
          <p:cNvSpPr/>
          <p:nvPr/>
        </p:nvSpPr>
        <p:spPr>
          <a:xfrm>
            <a:off x="28435320" y="14114520"/>
            <a:ext cx="7648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Table 1. Comparison of AUC with deep color trackers. Red and blue mark the top two valu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l these alternative trackers were run on both color videos and false-color video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most all trackers provide better AUCs on color videos because HSI are of lower spatial resolution and contain more nois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achieves the best AUC on HSI videos thanks to the embedded band attention module and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282909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9"/>
          <a:stretch/>
        </p:blipFill>
        <p:spPr>
          <a:xfrm>
            <a:off x="29346480" y="18745200"/>
            <a:ext cx="6086520" cy="5229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9"/>
          <p:cNvSpPr/>
          <p:nvPr/>
        </p:nvSpPr>
        <p:spPr>
          <a:xfrm>
            <a:off x="28551240" y="23922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Fig. Demonstration of visual tracking resul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HSIs, which visualizes the tracking results on pedestrian2, playground and student sequenc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5" name="图片 18" descr=""/>
          <p:cNvPicPr/>
          <p:nvPr/>
        </p:nvPicPr>
        <p:blipFill>
          <a:blip r:embed="rId10"/>
          <a:stretch/>
        </p:blipFill>
        <p:spPr>
          <a:xfrm>
            <a:off x="533520" y="1422360"/>
            <a:ext cx="4343400" cy="41702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1" descr=""/>
          <p:cNvPicPr/>
          <p:nvPr/>
        </p:nvPicPr>
        <p:blipFill>
          <a:blip r:embed="rId11"/>
          <a:stretch/>
        </p:blipFill>
        <p:spPr>
          <a:xfrm>
            <a:off x="33527880" y="1422360"/>
            <a:ext cx="4343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05:44:18Z</dcterms:created>
  <dc:creator/>
  <dc:description>MakeSigns.com
1.800.347.2744</dc:description>
  <dc:language>en-US</dc:language>
  <cp:lastModifiedBy>m18795903919@163.com</cp:lastModifiedBy>
  <cp:lastPrinted>2006-11-15T16:04:57Z</cp:lastPrinted>
  <dcterms:modified xsi:type="dcterms:W3CDTF">2020-11-03T04:53:25Z</dcterms:modified>
  <cp:revision>301</cp:revision>
  <dc:subject/>
  <dc:title>Slide 1</dc:title>
</cp:coreProperties>
</file>