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</p:sldIdLst>
  <p:sldSz cx="38404800" cy="38404800"/>
  <p:notesSz cx="31953200" cy="50147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31953600" cy="501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380492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17942040" y="-360"/>
            <a:ext cx="1413504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6501960" y="3757320"/>
            <a:ext cx="18748440" cy="1874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4137120" y="24004080"/>
            <a:ext cx="23456880" cy="2251260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7"/>
          </p:nvPr>
        </p:nvSpPr>
        <p:spPr>
          <a:xfrm>
            <a:off x="-360" y="47638800"/>
            <a:ext cx="1380492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8"/>
          </p:nvPr>
        </p:nvSpPr>
        <p:spPr>
          <a:xfrm>
            <a:off x="17942040" y="47638800"/>
            <a:ext cx="14135040" cy="2629080"/>
          </a:xfrm>
          <a:prstGeom prst="rect">
            <a:avLst/>
          </a:prstGeom>
          <a:noFill/>
          <a:ln w="0">
            <a:noFill/>
          </a:ln>
        </p:spPr>
        <p:txBody>
          <a:bodyPr lIns="450000" rIns="450000" tIns="225000" bIns="22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08640"/>
                <a:tab algn="l" pos="9016920"/>
              </a:tabLst>
              <a:defRPr b="0" lang="en-AU" sz="60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08640"/>
                <a:tab algn="l" pos="9016920"/>
              </a:tabLst>
            </a:pPr>
            <a:fld id="{D235222C-F783-405B-A19B-CDFAE502C10E}" type="slidenum">
              <a:rPr b="0" lang="en-AU" sz="60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17942040" y="47639160"/>
            <a:ext cx="1413504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0000" rIns="450000" tIns="225000" bIns="22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08640"/>
                <a:tab algn="l" pos="9016920"/>
              </a:tabLst>
            </a:pPr>
            <a:fld id="{56A05929-2934-49B4-BEE0-01ACB4511896}" type="slidenum">
              <a:rPr b="0" lang="en-AU" sz="6000" spc="-1" strike="noStrike">
                <a:solidFill>
                  <a:srgbClr val="000000"/>
                </a:solidFill>
                <a:latin typeface="Times New Roman"/>
                <a:ea typeface="等线"/>
              </a:rPr>
              <a:t>&lt;number&gt;</a:t>
            </a:fld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6502320" y="3757680"/>
            <a:ext cx="18748440" cy="18748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137120" y="24004080"/>
            <a:ext cx="23456880" cy="2251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A98-A66B-4EC3-9C6A-5C67DAAE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7FBA-4308-411E-A976-77B047E3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B6C7-8E1B-401C-BAA9-BBB90D4E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657-84ED-45F4-A4F4-E0B1E1A5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CEB5-DA0E-47DC-8788-FF1E0527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A14D-64A9-48A5-BFB5-0BE5CA22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1DB2-9CAF-40C1-8A42-3014831C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17E5-2BEB-4FB2-AC70-67AD2816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DE83-983D-4420-A4ED-D6D47BF6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3848-5BB5-4754-89A1-7E3BEF31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DF38-C27B-47EE-9B95-4BE7DF15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447-F74F-4EE1-B905-6954CE33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E7DC-81A9-4784-889A-D03467AF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4649-1AC2-45CB-A4DA-FE5D883B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955F-DA3D-48CF-A78F-6EAF36D2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8CD7-44A0-416C-B47E-36D6827A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F193-CA92-4277-B422-D1CD5703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75C89-679B-4CDE-8859-7A0B5BB1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8F7B7-E167-44AD-86D6-2EFFF695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8180F-76DD-4EDA-BA01-36B1D6FF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51755-CDD1-4C8B-A887-7AADD3AA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58296-D48A-4555-8020-5CE865DA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378-10E3-4529-9CFA-46FC2CAF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BABE-E99C-4E29-BAAB-E88B87AF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597E7-770C-4438-9426-DBD38CD7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13E72-AEC4-470B-B80C-3008C5DA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6C8A8-9733-431B-B3DD-A00AAFAB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D7B0-FD70-4E69-9647-BCF5049E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42B61-B537-4C9C-9033-777200F6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E864-0BB4-4DAA-8977-A1545680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C8ADC-3197-446C-8B8F-DEDF7890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B0402-D7F9-4309-B0F3-19694D49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4275D-8331-44F2-A066-8C08A03E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938-E9C9-488F-AF50-E0AF0FFE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BC382-AC5B-4E04-AD70-78F81D8A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1EE35-1211-4BE4-BC8D-6C63250D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155D4-DB17-4DD7-8386-ED086605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6616D-28B0-4873-9F94-8FBFE0FD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2C827-FB67-4714-BA8F-080A0330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207B1-2902-41C8-BB9B-E27A1E8C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23003-B3F2-4CAB-94F4-86A656A9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FD442-685A-4B26-AC3B-70242F5D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12C38-EB72-41E1-9C8E-C1FFBF76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93D84-0F33-4ABE-B13A-99DD2B87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200-5B6B-4A2C-ACF0-D05B25E3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2937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FDBD2-1104-4499-B042-839FD5C6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5B39B-1FA2-4EFD-A72A-9E39AF1C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B2695-40A6-48D8-A2E7-2729FC4E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DC4FD-0D43-4C67-80A5-100C66BD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67664-6CDC-4687-A255-1AE9C4D6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AFE21-E514-45DC-AFF6-A4038D57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F1B2D-A34B-495C-BF7E-116BF32A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03025-3DCB-44B3-ADCF-E1960CEF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BF2B7-0049-4075-A870-8C5C5072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88F2F-71D5-49F6-8114-AAD71307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43080" y="2141640"/>
            <a:ext cx="32061240" cy="3872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2937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A66-6FAA-400A-B105-9FF8CD41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478304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5623000" y="1280160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94308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1478304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5623000" y="23313240"/>
            <a:ext cx="1032336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9AA35-DDB1-4949-A14E-F74FFEC6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35C-9B41-43DF-B438-B2D19439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371320" y="2331324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BDE-BC37-4EF8-9D45-9835BA0F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4308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371320" y="12801600"/>
            <a:ext cx="1564560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43080" y="23313240"/>
            <a:ext cx="32061240" cy="95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2937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0AB-0C9F-4051-BBE2-4CAAC0F4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3080" y="35704440"/>
            <a:ext cx="73371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722400" y="35704440"/>
            <a:ext cx="129600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124200" y="35704440"/>
            <a:ext cx="8880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0827D-2E11-454E-8695-1FF90483B86E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751272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3751272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2852640" cy="384048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8664480" y="3533760"/>
            <a:ext cx="21967920" cy="2928312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97320" y="35704440"/>
            <a:ext cx="73389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3168080" y="35704440"/>
            <a:ext cx="129618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28562040" y="35704440"/>
            <a:ext cx="7337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895e04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09BE2F-0084-491D-A5B8-E5070FE6EF39}" type="slidenum">
              <a:rPr b="0" lang="en-US" sz="4200" spc="-1" strike="noStrike">
                <a:solidFill>
                  <a:srgbClr val="895e04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8866080" cy="384048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2754360" y="0"/>
            <a:ext cx="5186160" cy="384048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8866080" cy="38404800"/>
            <a:chOff x="0" y="0"/>
            <a:chExt cx="8866080" cy="384048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8866080" cy="384048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2754360" y="0"/>
              <a:ext cx="5185800" cy="384048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f3f3f2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ffffff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ffffff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10194480" y="35704440"/>
            <a:ext cx="47055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6628760" y="35704440"/>
            <a:ext cx="129618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31318200" y="35704440"/>
            <a:ext cx="468648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f3f3f2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FF6E3-AE65-4408-8544-0569F50B65A2}" type="slidenum">
              <a:rPr b="0" lang="en-US" sz="4200" spc="-1" strike="noStrike">
                <a:solidFill>
                  <a:srgbClr val="f3f3f2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23277600" y="0"/>
            <a:ext cx="15127200" cy="384048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2409480" y="35704440"/>
            <a:ext cx="388476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625800" y="35704440"/>
            <a:ext cx="109695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17926200" y="35704440"/>
            <a:ext cx="38829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28780-A914-4191-AF5F-21C9870E4570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23277600" y="0"/>
            <a:ext cx="15127200" cy="384048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892080" cy="384048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3080" y="2141640"/>
            <a:ext cx="32061240" cy="835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214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214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3943080" y="12801600"/>
            <a:ext cx="32061240" cy="20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868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1" marL="287964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2" marL="480060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3" marL="671976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Gill Sans MT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4" marL="8640720" indent="-958680">
              <a:lnSpc>
                <a:spcPct val="110000"/>
              </a:lnSpc>
              <a:spcBef>
                <a:spcPts val="2937"/>
              </a:spcBef>
              <a:buClr>
                <a:srgbClr val="2a1a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5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  <a:p>
            <a:pPr lvl="6" marL="8640720" indent="-958680">
              <a:lnSpc>
                <a:spcPct val="110000"/>
              </a:lnSpc>
              <a:spcBef>
                <a:spcPts val="2937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84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84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2413080" y="35704440"/>
            <a:ext cx="3881520" cy="19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625800" y="35704440"/>
            <a:ext cx="109695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17875080" y="35704440"/>
            <a:ext cx="398016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D7323-CE7F-4A1B-98D9-13BA40843138}" type="slidenum">
              <a:rPr b="0" lang="en-US" sz="4200" spc="-1" strike="noStrike">
                <a:solidFill>
                  <a:srgbClr val="595959"/>
                </a:solidFill>
                <a:latin typeface="Gill Sans MT"/>
                <a:ea typeface="华文中宋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44"/>
          <p:cNvSpPr/>
          <p:nvPr/>
        </p:nvSpPr>
        <p:spPr>
          <a:xfrm>
            <a:off x="10229760" y="10490040"/>
            <a:ext cx="8629920" cy="152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BAE-Net integrates the band attention mechanism into a VITAL tracker  which enhances positive sample data using adversarial learning and deals with class imbalance using a cost-sensitive loss function to suppress negative sampl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pecifically, an autoencoder-like architecture is employed to learn the nonlinear relationship among bands and generate their significance while reducing the influence of noise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ubsequently, the spectral bands are reordered according to their importance and partitioned into a number of three-channel image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hese images are then passed through VITAL tracker, producing a set of weak trackers which are finally combined via ensemble learning to determine the location of targ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buClr>
                <a:srgbClr val="006983"/>
              </a:buClr>
              <a:buSzPct val="60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19375560" y="10490040"/>
            <a:ext cx="17718120" cy="148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000080" y="1422360"/>
            <a:ext cx="36404640" cy="42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0" rIns="540000" tIns="540000" bIns="54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9116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12000" spc="-1" strike="noStrike">
                <a:solidFill>
                  <a:srgbClr val="3399cc"/>
                </a:solidFill>
                <a:latin typeface="Times New Roman"/>
                <a:ea typeface="宋体"/>
              </a:rPr>
              <a:t>           </a:t>
            </a:r>
            <a:r>
              <a:rPr b="1" i="1" lang="en-US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BAE-NET: A BAND ATTENTION AWARE ENSEMBLE</a:t>
            </a:r>
            <a:br>
              <a:rPr sz="8800"/>
            </a:br>
            <a:r>
              <a:rPr b="1" i="1" lang="en-AU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            </a:t>
            </a:r>
            <a:r>
              <a:rPr b="1" i="1" lang="en-US" sz="8800" spc="-1" strike="noStrike">
                <a:solidFill>
                  <a:srgbClr val="3399cc"/>
                </a:solidFill>
                <a:latin typeface="Times New Roman"/>
                <a:ea typeface="宋体"/>
              </a:rPr>
              <a:t> NETWORK FOR HYPERSPECTRAL OBJECT TRACKING</a:t>
            </a:r>
            <a:endParaRPr b="0" lang="en-US" sz="8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28880" y="6272280"/>
            <a:ext cx="363758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Zhuanfeng Li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1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Fengchao Xiong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1,∗ 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, Jun Zhou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2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Jing Wang 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2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 , Jianfeng Lu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1 </a:t>
            </a: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, and Yuntao Qian</a:t>
            </a:r>
            <a:r>
              <a:rPr b="1" lang="en-GB" sz="4800" spc="-1" strike="noStrike" baseline="30000">
                <a:solidFill>
                  <a:srgbClr val="3399cc"/>
                </a:solidFill>
                <a:latin typeface="Arial"/>
                <a:ea typeface="宋体"/>
              </a:rPr>
              <a:t> 3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1 School of Computer Science and Engineering, Nanjing University of Science and Technolog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2 School of Information and Communication Technology, Griffith Universit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3399cc"/>
                </a:solidFill>
                <a:latin typeface="Arial"/>
                <a:ea typeface="宋体"/>
              </a:rPr>
              <a:t>3 College of Computer Science, Zhejiang University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19886760" y="11828520"/>
            <a:ext cx="8001000" cy="641340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Text Box 60"/>
          <p:cNvSpPr/>
          <p:nvPr/>
        </p:nvSpPr>
        <p:spPr>
          <a:xfrm>
            <a:off x="20726280" y="37249200"/>
            <a:ext cx="166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IEEE International Conference on Image Proces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23317200" y="12012480"/>
            <a:ext cx="4457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Comparison with baseline VITAL tracker with respect to precision plot and success plo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ranks top among all the trackers by achieving 0.616 on AUC metri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VITAL-False and BAE-Net outperform VITAL-HSI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Not all the bands contribute equally to tracking but band ranking can suppress the uninformative ban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Text Box 122"/>
          <p:cNvSpPr/>
          <p:nvPr/>
        </p:nvSpPr>
        <p:spPr>
          <a:xfrm>
            <a:off x="1000080" y="10490040"/>
            <a:ext cx="8570880" cy="1477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racking on color videos have made great progress, but it has intrinsic limitation in depicting the physical properties of targe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Compared to color images, hyperspectral images (HSIs) record continuous spectral reflectance of targets in light wavelength indexed band images. Qian and Xiong et.al proposed  hand-crafted features for object tracking but cannot describe the inherent nature of the data. Uzkent et al. proposed a deep kernelized correlation filter method for tracking but losed valuable spectral information with HSI converted into 3-channel imag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Alternatively, an HSI can be divided into a series of three-channel images with band selection to  select a number of top-ranked bands in order of their importan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Text Box 123"/>
          <p:cNvSpPr/>
          <p:nvPr/>
        </p:nvSpPr>
        <p:spPr>
          <a:xfrm>
            <a:off x="969840" y="24881040"/>
            <a:ext cx="8575920" cy="1169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Purpose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Hyperspectral videos contain images with a large number of light wavelength indexed bands that can facilitate material identification for object tracking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Most hyperspectral trackers use hand-crafted features rather than deep learning generated features for image representation due to limited train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samples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03760"/>
                <a:tab algn="l" pos="940752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To fill this gap, this paper introduces a band attention aware ensemble network (BAE-Net) for deep hyperspectral object tracking, which takes advantages of deep models trained on color videos for feature represent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Rectangle 146"/>
          <p:cNvSpPr/>
          <p:nvPr/>
        </p:nvSpPr>
        <p:spPr>
          <a:xfrm>
            <a:off x="28519560" y="25752600"/>
            <a:ext cx="8574120" cy="1142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800" spc="-1" strike="noStrike">
                <a:solidFill>
                  <a:srgbClr val="006983"/>
                </a:solidFill>
                <a:latin typeface="Arial"/>
                <a:ea typeface="宋体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80880" indent="-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In this paper, we have introduced a BAE-Net for hyperspectral object tracking. Firstly, the HSIs are split into a group of three-channel images according to the band-wise importance learned by autoencoder-like band attention module. Then the split three-channel images are fed into a deep color tracking network to generate a set of weak trackers. These weak trackers are fused by ensemble learning. Finally, all parameters are learned in an end-to-end manner. Experimental results have proved that proposed method achieves better results than deep color trackers and hyperspectral tracker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10229760" y="25741440"/>
            <a:ext cx="18134280" cy="4657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50"/>
          <p:cNvSpPr/>
          <p:nvPr/>
        </p:nvSpPr>
        <p:spPr>
          <a:xfrm>
            <a:off x="10233000" y="30399120"/>
            <a:ext cx="18104040" cy="22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noAutofit/>
          </a:bodyPr>
          <a:p>
            <a:pPr marL="380880" indent="-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0" i="1" lang="en-US" sz="3600" spc="-1" strike="noStrike">
                <a:solidFill>
                  <a:srgbClr val="006983"/>
                </a:solidFill>
                <a:latin typeface="Arial"/>
                <a:ea typeface="宋体"/>
              </a:rPr>
              <a:t>An autoencoder-like architecture is used to produce band ranking. The sorted bands are split into a group of three-channel images, which are fed into VITAL to produce weak trackers. Ensemble learning combines weak trackers for object localiza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1" name="图片 2" descr=""/>
          <p:cNvPicPr/>
          <p:nvPr/>
        </p:nvPicPr>
        <p:blipFill>
          <a:blip r:embed="rId2"/>
          <a:stretch/>
        </p:blipFill>
        <p:spPr>
          <a:xfrm>
            <a:off x="10229760" y="32696280"/>
            <a:ext cx="9145800" cy="448308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150" descr=""/>
          <p:cNvPicPr/>
          <p:nvPr/>
        </p:nvPicPr>
        <p:blipFill>
          <a:blip r:embed="rId3"/>
          <a:stretch/>
        </p:blipFill>
        <p:spPr>
          <a:xfrm>
            <a:off x="19373760" y="32693040"/>
            <a:ext cx="9033120" cy="44863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" descr=""/>
          <p:cNvPicPr/>
          <p:nvPr/>
        </p:nvPicPr>
        <p:blipFill>
          <a:blip r:embed="rId4"/>
          <a:stretch/>
        </p:blipFill>
        <p:spPr>
          <a:xfrm>
            <a:off x="20142360" y="11926800"/>
            <a:ext cx="3009600" cy="27687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8"/>
          <p:cNvSpPr/>
          <p:nvPr/>
        </p:nvSpPr>
        <p:spPr>
          <a:xfrm>
            <a:off x="19886760" y="18695880"/>
            <a:ext cx="8001000" cy="641196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Text Box 69"/>
          <p:cNvSpPr/>
          <p:nvPr/>
        </p:nvSpPr>
        <p:spPr>
          <a:xfrm>
            <a:off x="23317200" y="18878400"/>
            <a:ext cx="4457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Comparison with hyperspectral tracke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ranks the top as it considers the importance of different bands before deep feature extraction and fuse the tracking results from weak trackers using ensemble learn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MHT obtains better results than DeepHKCF and CNHT since it considers spectral-spatial structure of H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6" name="图片 6" descr=""/>
          <p:cNvPicPr/>
          <p:nvPr/>
        </p:nvPicPr>
        <p:blipFill>
          <a:blip r:embed="rId5"/>
          <a:stretch/>
        </p:blipFill>
        <p:spPr>
          <a:xfrm>
            <a:off x="20105640" y="18797760"/>
            <a:ext cx="2989440" cy="279072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8" descr=""/>
          <p:cNvPicPr/>
          <p:nvPr/>
        </p:nvPicPr>
        <p:blipFill>
          <a:blip r:embed="rId6"/>
          <a:stretch/>
        </p:blipFill>
        <p:spPr>
          <a:xfrm>
            <a:off x="20081880" y="21904200"/>
            <a:ext cx="3070080" cy="245592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9" descr=""/>
          <p:cNvPicPr/>
          <p:nvPr/>
        </p:nvPicPr>
        <p:blipFill>
          <a:blip r:embed="rId7"/>
          <a:stretch/>
        </p:blipFill>
        <p:spPr>
          <a:xfrm>
            <a:off x="20086560" y="14946480"/>
            <a:ext cx="3008520" cy="25016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8"/>
          <p:cNvSpPr/>
          <p:nvPr/>
        </p:nvSpPr>
        <p:spPr>
          <a:xfrm>
            <a:off x="28258920" y="11828520"/>
            <a:ext cx="8001000" cy="643572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" name="图片 10" descr=""/>
          <p:cNvPicPr/>
          <p:nvPr/>
        </p:nvPicPr>
        <p:blipFill>
          <a:blip r:embed="rId8"/>
          <a:stretch/>
        </p:blipFill>
        <p:spPr>
          <a:xfrm>
            <a:off x="28366920" y="11950560"/>
            <a:ext cx="7689960" cy="20116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9"/>
          <p:cNvSpPr/>
          <p:nvPr/>
        </p:nvSpPr>
        <p:spPr>
          <a:xfrm>
            <a:off x="28435320" y="14114520"/>
            <a:ext cx="7648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Table 1. Comparison of AUC with deep color trackers. Red and blue mark the top two valu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All these alternative trackers were run on both color videos and false-color video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Almost all trackers provide better AUCs on color videos because HSI are of lower spatial resolution and contain more nois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buClr>
                <a:srgbClr val="00698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BAE-Net achieves the best AUC on HSI videos thanks to the embedded band attention module and ensemble learn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28290960" y="18695880"/>
            <a:ext cx="8001000" cy="6411960"/>
          </a:xfrm>
          <a:prstGeom prst="rect">
            <a:avLst/>
          </a:prstGeom>
          <a:solidFill>
            <a:srgbClr val="eeeeee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3" name="图片 15" descr=""/>
          <p:cNvPicPr/>
          <p:nvPr/>
        </p:nvPicPr>
        <p:blipFill>
          <a:blip r:embed="rId9"/>
          <a:stretch/>
        </p:blipFill>
        <p:spPr>
          <a:xfrm>
            <a:off x="29346480" y="18745200"/>
            <a:ext cx="6086520" cy="52293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9"/>
          <p:cNvSpPr/>
          <p:nvPr/>
        </p:nvSpPr>
        <p:spPr>
          <a:xfrm>
            <a:off x="28551240" y="2392200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Fig. Demonstration of visual tracking resul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6983"/>
                </a:solidFill>
                <a:latin typeface="Arial"/>
                <a:ea typeface="宋体"/>
              </a:rPr>
              <a:t>HSIs, which visualizes the tracking results on pedestrian2, playground and student sequenc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5" name="图片 18" descr=""/>
          <p:cNvPicPr/>
          <p:nvPr/>
        </p:nvPicPr>
        <p:blipFill>
          <a:blip r:embed="rId10"/>
          <a:stretch/>
        </p:blipFill>
        <p:spPr>
          <a:xfrm>
            <a:off x="533520" y="1422360"/>
            <a:ext cx="4343400" cy="41702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81" descr=""/>
          <p:cNvPicPr/>
          <p:nvPr/>
        </p:nvPicPr>
        <p:blipFill>
          <a:blip r:embed="rId11"/>
          <a:stretch/>
        </p:blipFill>
        <p:spPr>
          <a:xfrm>
            <a:off x="33527880" y="1422360"/>
            <a:ext cx="43434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4T05:44:18Z</dcterms:created>
  <dc:creator/>
  <dc:description>MakeSigns.com
1.800.347.2744</dc:description>
  <dc:language>en-US</dc:language>
  <cp:lastModifiedBy>m18795903919@163.com</cp:lastModifiedBy>
  <cp:lastPrinted>2006-11-15T16:04:57Z</cp:lastPrinted>
  <dcterms:modified xsi:type="dcterms:W3CDTF">2020-11-03T04:53:25Z</dcterms:modified>
  <cp:revision>301</cp:revision>
  <dc:subject/>
  <dc:title>Slide 1</dc:title>
</cp:coreProperties>
</file>